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61E7-0339-4D75-BD44-601F710721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0961-B71E-4971-999D-A8AD5C5B3D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4E42-F77E-48A6-8D7F-6C253098A0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CC72-BDF5-453A-8461-2F00EA813A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05CE-3569-4F0B-ADC8-E6DA58D3F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1E58-C60A-4AB0-B16F-0811D96A6A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50C9-421A-48FD-9D4E-B03A9277C4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70EE-7933-4590-AF8E-59901152F8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22F7-1EF2-4F2D-BC84-02C5CD39EF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59F4-4122-406D-A422-228C530021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B659-B428-42DE-8164-75589EE516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57A1-6528-442C-96D9-A8DDB39598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0BBF-5149-44A4-99AD-9E997E110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5CDD-6E0E-4533-9525-32AC38FC5A1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7906-34C8-45B0-B0B5-69DCE94F8A0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E02F-E7F4-46D0-A901-16F1116EDA6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0340-5565-4D5F-BBAD-0C16F83E5B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4399-4B20-46F9-AC54-DD7275C9B6D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BE1F-54C4-4A42-875B-1688D60669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2B2C-9DFC-49BD-91A2-E5FCF375CD6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FA28-A044-4399-940C-5772DB9166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7E07-31A4-47FC-A28E-67B46AD90A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B2FB-9055-4D04-9F4C-5EE6B306C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2AEC-F0D9-4B29-B72A-EC5C9A1A61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15960" y="304920"/>
            <a:ext cx="7924680" cy="35049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382680"/>
            <a:ext cx="7772400" cy="3581280"/>
          </a:xfrm>
          <a:prstGeom prst="rect">
            <a:avLst/>
          </a:prstGeom>
          <a:gradFill rotWithShape="0">
            <a:gsLst>
              <a:gs pos="0">
                <a:srgbClr val="284035"/>
              </a:gs>
              <a:gs pos="50000">
                <a:srgbClr val="487460"/>
              </a:gs>
              <a:gs pos="100000">
                <a:srgbClr val="284035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5360" y="3811680"/>
            <a:ext cx="815328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3583080"/>
            <a:ext cx="91440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36363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918520" y="3299040"/>
            <a:ext cx="1805040" cy="519840"/>
            <a:chOff x="2918520" y="3299040"/>
            <a:chExt cx="1805040" cy="519840"/>
          </a:xfrm>
        </p:grpSpPr>
        <p:sp>
          <p:nvSpPr>
            <p:cNvPr id="7" name=""/>
            <p:cNvSpPr/>
            <p:nvPr/>
          </p:nvSpPr>
          <p:spPr>
            <a:xfrm rot="430200">
              <a:off x="2968560" y="3331800"/>
              <a:ext cx="533520" cy="7596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430200">
              <a:off x="3052440" y="3406680"/>
              <a:ext cx="304920" cy="304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1036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430200">
              <a:off x="2920680" y="3709440"/>
              <a:ext cx="533520" cy="76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430200">
              <a:off x="3352320" y="3642840"/>
              <a:ext cx="1371600" cy="763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6629400" y="3735360"/>
            <a:ext cx="533520" cy="76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queaky chalk sou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queaky chalk sou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queaky chalk sou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queaky chalk sou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queaky chalk sou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queaky chalk sou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queaky chalk sou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queaky chalk sou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queaky chalk soun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queaky chalk sou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squeaky chalk sou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squeaky chalk sou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squeaky chalk sou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960" y="304920"/>
            <a:ext cx="7924680" cy="5648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80880"/>
            <a:ext cx="7772400" cy="5821560"/>
          </a:xfrm>
          <a:prstGeom prst="rect">
            <a:avLst/>
          </a:prstGeom>
          <a:gradFill rotWithShape="0">
            <a:gsLst>
              <a:gs pos="0">
                <a:srgbClr val="284035"/>
              </a:gs>
              <a:gs pos="50000">
                <a:srgbClr val="487460"/>
              </a:gs>
              <a:gs pos="100000">
                <a:srgbClr val="284035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360" y="5956200"/>
            <a:ext cx="8153280" cy="3682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5734080"/>
            <a:ext cx="91440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36363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17440" y="5376960"/>
            <a:ext cx="1806840" cy="599040"/>
            <a:chOff x="2917440" y="5376960"/>
            <a:chExt cx="1806840" cy="599040"/>
          </a:xfrm>
        </p:grpSpPr>
        <p:sp>
          <p:nvSpPr>
            <p:cNvPr id="57" name=""/>
            <p:cNvSpPr/>
            <p:nvPr/>
          </p:nvSpPr>
          <p:spPr>
            <a:xfrm rot="430200">
              <a:off x="2968200" y="5409720"/>
              <a:ext cx="533520" cy="889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430200">
              <a:off x="3052440" y="5497200"/>
              <a:ext cx="304920" cy="358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1036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430200">
              <a:off x="2920680" y="5853240"/>
              <a:ext cx="533520" cy="896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430200">
              <a:off x="3352320" y="5775120"/>
              <a:ext cx="1371600" cy="896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6629400" y="5834160"/>
            <a:ext cx="533520" cy="1220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queaky chalk sou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queaky chalk sou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queaky chalk sou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queaky chalk sou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squeaky chalk sou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queaky chalk sou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queaky chalk sou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queaky chalk sou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squeaky chalk sou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queaky chalk sou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queaky chalk sou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0" y="838080"/>
            <a:ext cx="91411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8746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34240" y="5334120"/>
            <a:ext cx="1409760" cy="1523880"/>
            <a:chOff x="7734240" y="5334120"/>
            <a:chExt cx="1409760" cy="1523880"/>
          </a:xfrm>
        </p:grpSpPr>
        <p:sp>
          <p:nvSpPr>
            <p:cNvPr id="102" name=""/>
            <p:cNvSpPr/>
            <p:nvPr/>
          </p:nvSpPr>
          <p:spPr>
            <a:xfrm>
              <a:off x="7776720" y="6332400"/>
              <a:ext cx="1366920" cy="525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874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7734240" y="5334120"/>
              <a:ext cx="1409760" cy="15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71280" y="6553080"/>
            <a:ext cx="43434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8746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85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DE8B-3247-4551-B152-8388954D5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960" y="304920"/>
            <a:ext cx="7924680" cy="5648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80880"/>
            <a:ext cx="7772400" cy="5821560"/>
          </a:xfrm>
          <a:prstGeom prst="rect">
            <a:avLst/>
          </a:prstGeom>
          <a:gradFill rotWithShape="0">
            <a:gsLst>
              <a:gs pos="0">
                <a:srgbClr val="284035"/>
              </a:gs>
              <a:gs pos="50000">
                <a:srgbClr val="487460"/>
              </a:gs>
              <a:gs pos="100000">
                <a:srgbClr val="284035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360" y="5956200"/>
            <a:ext cx="8153280" cy="3682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5734080"/>
            <a:ext cx="91440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36363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917440" y="5376960"/>
            <a:ext cx="1806840" cy="599040"/>
            <a:chOff x="2917440" y="5376960"/>
            <a:chExt cx="1806840" cy="599040"/>
          </a:xfrm>
        </p:grpSpPr>
        <p:sp>
          <p:nvSpPr>
            <p:cNvPr id="151" name=""/>
            <p:cNvSpPr/>
            <p:nvPr/>
          </p:nvSpPr>
          <p:spPr>
            <a:xfrm rot="430200">
              <a:off x="2968200" y="5409720"/>
              <a:ext cx="533520" cy="889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430200">
              <a:off x="3052440" y="5497200"/>
              <a:ext cx="304920" cy="358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1036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430200">
              <a:off x="2920680" y="5853240"/>
              <a:ext cx="533520" cy="896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430200">
              <a:off x="3352320" y="5775120"/>
              <a:ext cx="1371600" cy="896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629400" y="5834160"/>
            <a:ext cx="533520" cy="1220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7734240" y="5334120"/>
            <a:ext cx="1409760" cy="1523880"/>
            <a:chOff x="7734240" y="5334120"/>
            <a:chExt cx="1409760" cy="1523880"/>
          </a:xfrm>
        </p:grpSpPr>
        <p:sp>
          <p:nvSpPr>
            <p:cNvPr id="193" name=""/>
            <p:cNvSpPr/>
            <p:nvPr/>
          </p:nvSpPr>
          <p:spPr>
            <a:xfrm>
              <a:off x="7776720" y="6332400"/>
              <a:ext cx="1366920" cy="525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874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7734240" y="5334120"/>
              <a:ext cx="1409760" cy="15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71280" y="6553080"/>
            <a:ext cx="43434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8746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2BCF-1BE3-42F2-B70A-CD9913DE1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960" y="304920"/>
            <a:ext cx="7924680" cy="5648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80880"/>
            <a:ext cx="7772400" cy="5821560"/>
          </a:xfrm>
          <a:prstGeom prst="rect">
            <a:avLst/>
          </a:prstGeom>
          <a:gradFill rotWithShape="0">
            <a:gsLst>
              <a:gs pos="0">
                <a:srgbClr val="284035"/>
              </a:gs>
              <a:gs pos="50000">
                <a:srgbClr val="487460"/>
              </a:gs>
              <a:gs pos="100000">
                <a:srgbClr val="284035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360" y="5956200"/>
            <a:ext cx="8153280" cy="3682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5734080"/>
            <a:ext cx="91440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36363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917440" y="5376960"/>
            <a:ext cx="1806840" cy="599040"/>
            <a:chOff x="2917440" y="5376960"/>
            <a:chExt cx="1806840" cy="599040"/>
          </a:xfrm>
        </p:grpSpPr>
        <p:sp>
          <p:nvSpPr>
            <p:cNvPr id="242" name=""/>
            <p:cNvSpPr/>
            <p:nvPr/>
          </p:nvSpPr>
          <p:spPr>
            <a:xfrm rot="430200">
              <a:off x="2968200" y="5409720"/>
              <a:ext cx="533520" cy="889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430200">
              <a:off x="3052440" y="5497200"/>
              <a:ext cx="304920" cy="358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1036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430200">
              <a:off x="2920680" y="5853240"/>
              <a:ext cx="533520" cy="896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430200">
              <a:off x="3352320" y="5775120"/>
              <a:ext cx="1371600" cy="896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629400" y="5834160"/>
            <a:ext cx="533520" cy="1220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380880"/>
            <a:ext cx="7772400" cy="5821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1600" spc="-1" strike="noStrike">
                <a:solidFill>
                  <a:srgbClr val="ffff66"/>
                </a:solidFill>
                <a:latin typeface="squeaky chalk sound"/>
              </a:rPr>
              <a:t>December 16, 2009  </a:t>
            </a:r>
            <a:br>
              <a:rPr sz="1600"/>
            </a:br>
            <a:r>
              <a:rPr b="0" lang="en-US" sz="1600" spc="-1" strike="noStrike">
                <a:solidFill>
                  <a:srgbClr val="ffff66"/>
                </a:solidFill>
                <a:latin typeface="squeaky chalk sound"/>
              </a:rPr>
              <a:t>Justin Kenned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Edtech 544 - Dr. Maria Schu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5360" y="5956200"/>
            <a:ext cx="8153280" cy="3682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5734080"/>
            <a:ext cx="91440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36363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17440" y="5376960"/>
            <a:ext cx="1806840" cy="599040"/>
            <a:chOff x="2917440" y="5376960"/>
            <a:chExt cx="1806840" cy="599040"/>
          </a:xfrm>
        </p:grpSpPr>
        <p:sp>
          <p:nvSpPr>
            <p:cNvPr id="287" name=""/>
            <p:cNvSpPr/>
            <p:nvPr/>
          </p:nvSpPr>
          <p:spPr>
            <a:xfrm rot="430200">
              <a:off x="2968200" y="5409720"/>
              <a:ext cx="533520" cy="889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430200">
              <a:off x="3052440" y="5497200"/>
              <a:ext cx="304920" cy="358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1036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430200">
              <a:off x="2920680" y="5853240"/>
              <a:ext cx="533520" cy="896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430200">
              <a:off x="3352320" y="5775120"/>
              <a:ext cx="1371600" cy="896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629400" y="5834160"/>
            <a:ext cx="533520" cy="1220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762120"/>
            <a:ext cx="739152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queaky chalk sound"/>
              </a:rPr>
              <a:t>Intermediate and Advanced PowerPoint </a:t>
            </a:r>
            <a:r>
              <a:rPr b="0" lang="en-US" sz="5400" spc="-1" strike="noStrike">
                <a:solidFill>
                  <a:srgbClr val="ffff66"/>
                </a:solidFill>
                <a:latin typeface="squeaky chalk sound"/>
              </a:rPr>
              <a:t>Desig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0" y="5397480"/>
            <a:ext cx="3657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5519520" y="5738400"/>
            <a:ext cx="76320" cy="381240"/>
          </a:xfrm>
          <a:prstGeom prst="can">
            <a:avLst>
              <a:gd name="adj" fmla="val 12083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16200000"/>
          </a:gra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46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45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iterate type="lt">
                                    <p:tmAbs val="118.518524169922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54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00243 0.00648 C -0.00972 -0.00301 -0.01198 -0.0081 -0.02083 -0.01342 C -0.02413 -0.01527 -0.0309 -0.01782 -0.0309 -0.01759 C -0.03524 -0.02384 -0.03975 -0.02639 -0.04583 -0.02893 C -0.0526 -0.03518 -0.05955 -0.0375 -0.06753 -0.04004 C -0.06996 -0.04352 -0.07361 -0.04537 -0.07586 -0.04907 C -0.07691 -0.05092 -0.07656 -0.0537 -0.07743 -0.05578 C -0.03194 -0.0574 0.13386 -0.05787 0.19844 -0.05856 C 0.24584 -0.05949 0.18872 -0.06041 0.2073 -0.06064 C 0.22587 -0.06088 0.28855 -0.06041 0.3099 -0.06041 E">
                                      <p:cBhvr>
                                        <p:cTn id="17" dur="26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2700000">
                                      <p:cBhvr>
                                        <p:cTn id="1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762120" y="8953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Using Multiple Masters: Student will master incorporating and applying additional master slides to existing present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iscuss Multiple &amp; Alternative Masters: Student understands and can discuss in an informed manner, when the use of additional master slides are necess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eating &amp; Applying Additional Masters: Student will demonstrate ability to create, modify and selectively apply additional master slides within a presen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52240" y="520560"/>
            <a:ext cx="460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Seven:  Master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17640" y="4629240"/>
            <a:ext cx="2361600" cy="7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and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89760" y="4629240"/>
            <a:ext cx="288900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ion and 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62480" y="5924520"/>
            <a:ext cx="510516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,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62120" y="8953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66"/>
                </a:solidFill>
                <a:latin typeface="Arial"/>
              </a:rPr>
              <a:t>Optimize Presentation: Student will demonstrate ability to reduce file size and identify and discard unnecessary data embedded in present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xamine Files Size and Links: Student will know how to locate and check the integrity of links and current size of pres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monstrate Packing Presentation Options: Student will master process of packaging a presentation tor delivery via CD/DVD and other 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monstrate Finding Hidden Problems: Student will master deconstructing  potentially corrupted presentations and identify specific probl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monstrate File Reduction Techniques: Student demonstrates understanding of how and why reducing file size can be importa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46920" y="520560"/>
            <a:ext cx="442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Eight: 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19080" y="4629240"/>
            <a:ext cx="3565440" cy="7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, Procedure and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89040" y="4629240"/>
            <a:ext cx="247752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ion/L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1680" y="5924520"/>
            <a:ext cx="335268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/Inqui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62440" y="5924520"/>
            <a:ext cx="49165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,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15960" y="304920"/>
            <a:ext cx="7924680" cy="35049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382680"/>
            <a:ext cx="7772400" cy="3581280"/>
          </a:xfrm>
          <a:prstGeom prst="rect">
            <a:avLst/>
          </a:prstGeom>
          <a:gradFill rotWithShape="0">
            <a:gsLst>
              <a:gs pos="0">
                <a:srgbClr val="284035"/>
              </a:gs>
              <a:gs pos="50000">
                <a:srgbClr val="487460"/>
              </a:gs>
              <a:gs pos="100000">
                <a:srgbClr val="284035"/>
              </a:gs>
            </a:gsLst>
            <a:lin ang="108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Project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Templat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5360" y="3811680"/>
            <a:ext cx="815328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70760" y="520560"/>
            <a:ext cx="225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Projec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3583080"/>
            <a:ext cx="91440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36363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918520" y="3299040"/>
            <a:ext cx="1805040" cy="519840"/>
            <a:chOff x="2918520" y="3299040"/>
            <a:chExt cx="1805040" cy="519840"/>
          </a:xfrm>
        </p:grpSpPr>
        <p:sp>
          <p:nvSpPr>
            <p:cNvPr id="364" name=""/>
            <p:cNvSpPr/>
            <p:nvPr/>
          </p:nvSpPr>
          <p:spPr>
            <a:xfrm rot="430200">
              <a:off x="2968560" y="3331800"/>
              <a:ext cx="533520" cy="7596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430200">
              <a:off x="3052440" y="3406680"/>
              <a:ext cx="304920" cy="304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1036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430200">
              <a:off x="2920680" y="3709440"/>
              <a:ext cx="533520" cy="76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430200">
              <a:off x="3352320" y="3642840"/>
              <a:ext cx="1371600" cy="763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629400" y="3735360"/>
            <a:ext cx="533520" cy="76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427500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Animation Tools &amp;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479736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Rev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53197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Multiple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58435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of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67080" y="1313280"/>
            <a:ext cx="4305600" cy="18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Interactiv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Master Sl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2689200"/>
            <a:ext cx="2133720" cy="81000"/>
          </a:xfrm>
          <a:custGeom>
            <a:avLst/>
            <a:gdLst/>
            <a:ahLst/>
            <a:rect l="l" t="t" r="r" b="b"/>
            <a:pathLst>
              <a:path w="1392" h="15">
                <a:moveTo>
                  <a:pt x="0" y="3"/>
                </a:moveTo>
                <a:lnTo>
                  <a:pt x="47" y="3"/>
                </a:lnTo>
                <a:lnTo>
                  <a:pt x="678" y="15"/>
                </a:lnTo>
                <a:lnTo>
                  <a:pt x="1232" y="0"/>
                </a:lnTo>
                <a:lnTo>
                  <a:pt x="1392" y="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5500440" y="3579480"/>
            <a:ext cx="76320" cy="381240"/>
          </a:xfrm>
          <a:prstGeom prst="can">
            <a:avLst>
              <a:gd name="adj" fmla="val 12083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16200000"/>
          </a:gra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89160" y="609480"/>
            <a:ext cx="1479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15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105520" y="7315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8000"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57375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5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8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9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08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6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12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13300"/>
                                  </p:stCondLst>
                                  <p:iterate type="lt">
                                    <p:tmAbs val="32.0513141155243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16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17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212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46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306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4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29100"/>
                                  </p:stCondLst>
                                  <p:childTnLst>
                                    <p:animMotion origin="layout" path="M -0.00208 0.00463 C -0.00938 -0.00485 -0.01146 -0.00994 -0.02049 -0.01526 C -0.1033 -0.03977 -0.43108 -0.1015 -0.49427 -0.12323 L -0.51406 -0.13641 C -0.49653 -0.13849 -0.42726 -0.13641 -0.38924 -0.13641 C -0.35122 -0.13641 -0.31007 -0.13156 -0.28542 -0.13641 E">
                                      <p:cBhvr>
                                        <p:cTn id="105" dur="26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6">
                                  <p:stCondLst>
                                    <p:cond delay="30600"/>
                                  </p:stCondLst>
                                  <p:iterate type="lt">
                                    <p:tmAbs val="1.02445451943822E-005"/>
                                  </p:iterate>
                                  <p:childTnLst>
                                    <p:set>
                                      <p:cBhvr>
                                        <p:cTn id="107" dur="11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108" dur="11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109" dur="11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416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492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51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382680"/>
            <a:ext cx="7772400" cy="3581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66320" y="434880"/>
            <a:ext cx="1662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5440" y="4267080"/>
            <a:ext cx="38088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5440" y="4789440"/>
            <a:ext cx="38088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5440" y="5313240"/>
            <a:ext cx="38088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95440" y="5837400"/>
            <a:ext cx="38088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27500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ur Tools &amp;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66680" y="479736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Rev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53197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Multiple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58435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of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05320" y="2819520"/>
            <a:ext cx="4419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queaky chalk sound"/>
              </a:rPr>
              <a:t>Terminal Objectives revolve around a single project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66560" y="1000080"/>
            <a:ext cx="2489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Terminal 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51102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imation Enabling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038480" y="4191120"/>
            <a:ext cx="1067040" cy="2209680"/>
          </a:xfrm>
          <a:custGeom>
            <a:avLst/>
            <a:gdLst>
              <a:gd name="textAreaLeft" fmla="*/ 0 w 1067040"/>
              <a:gd name="textAreaRight" fmla="*/ 385200 w 10670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1414440"/>
            <a:ext cx="738828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queaky chalk sound"/>
              </a:rPr>
              <a:t>Animating Objects: Student will design functional slides reflecting an appropriate use of animated objects that enhance the content of a given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343400" y="7696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4000"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44313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9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15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4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990800" y="2305080"/>
            <a:ext cx="2305080" cy="331920"/>
          </a:xfrm>
          <a:prstGeom prst="rect">
            <a:avLst/>
          </a:pr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586560" y="2332080"/>
            <a:ext cx="8380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queaky chalk sound"/>
                <a:ea typeface="Arial"/>
              </a:rPr>
              <a:t>AD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86560" y="2308320"/>
            <a:ext cx="8380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eaky chalk sound"/>
                <a:ea typeface="Arial"/>
              </a:rPr>
              <a:t>AD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427500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Animation Tools &amp;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479736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Rev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53197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Multiple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58435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of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638320" y="3470760"/>
            <a:ext cx="2957040" cy="3391200"/>
            <a:chOff x="5638320" y="3470760"/>
            <a:chExt cx="2957040" cy="3391200"/>
          </a:xfrm>
        </p:grpSpPr>
        <p:sp>
          <p:nvSpPr>
            <p:cNvPr id="403" name=""/>
            <p:cNvSpPr/>
            <p:nvPr/>
          </p:nvSpPr>
          <p:spPr>
            <a:xfrm rot="3130200">
              <a:off x="7222320" y="6080040"/>
              <a:ext cx="1614240" cy="178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dddddd"/>
                </a:gs>
                <a:gs pos="100000">
                  <a:srgbClr val="000000"/>
                </a:gs>
              </a:gsLst>
              <a:lin ang="2268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5638320" y="3470760"/>
              <a:ext cx="2647080" cy="2647080"/>
              <a:chOff x="5638320" y="3470760"/>
              <a:chExt cx="2647080" cy="2647080"/>
            </a:xfrm>
          </p:grpSpPr>
          <p:sp>
            <p:nvSpPr>
              <p:cNvPr id="405" name=""/>
              <p:cNvSpPr/>
              <p:nvPr/>
            </p:nvSpPr>
            <p:spPr>
              <a:xfrm rot="3083400">
                <a:off x="6019920" y="3852360"/>
                <a:ext cx="1883520" cy="188352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263640" y="4920120"/>
                <a:ext cx="54036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7156800" y="4206960"/>
                <a:ext cx="54072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6379920" y="4067640"/>
                <a:ext cx="432720" cy="5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7093440" y="4961160"/>
                <a:ext cx="43272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1143000" y="907920"/>
            <a:ext cx="6781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queaky chalk sound"/>
              </a:rPr>
              <a:t>The project for the Animation Terminal Objective is to create a </a:t>
            </a:r>
            <a:r>
              <a:rPr b="1" lang="en-US" sz="1700" spc="-1" strike="noStrike">
                <a:solidFill>
                  <a:srgbClr val="ffff66"/>
                </a:solidFill>
                <a:latin typeface="squeaky chalk sound"/>
              </a:rPr>
              <a:t>“Magnifying Glass”</a:t>
            </a:r>
            <a:r>
              <a:rPr b="0" lang="en-US" sz="1700" spc="-1" strike="noStrike">
                <a:solidFill>
                  <a:srgbClr val="ffffff"/>
                </a:solidFill>
                <a:latin typeface="squeaky chalk sound"/>
              </a:rPr>
              <a:t> animate it, and create the impression it actually work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19000" y="2009880"/>
            <a:ext cx="53150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Students build a presentation for fictional client: a Detective Agency.  A Cross-objective project.  Students’ Planning and Basic Design Objectives precede this exerci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66320" y="434880"/>
            <a:ext cx="1662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3886200"/>
            <a:ext cx="5181480" cy="2743200"/>
          </a:xfrm>
          <a:prstGeom prst="ellipse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867280" y="7543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1000"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0063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64">
                                  <p:stCondLst>
                                    <p:cond delay="173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64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179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4">
                                  <p:stCondLst>
                                    <p:cond delay="179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9" dur="9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29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1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1" presetSubtype="1">
                                  <p:stCondLst>
                                    <p:cond delay="462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14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3" presetSubtype="2">
                                  <p:stCondLst>
                                    <p:cond delay="2750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" presetSubtype="2">
                                  <p:stCondLst>
                                    <p:cond delay="27500"/>
                                  </p:stCondLst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27500"/>
                                  </p:stCondLst>
                                  <p:childTnLst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" presetSubtype="2">
                                  <p:stCondLst>
                                    <p:cond delay="2750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pperplate Gothic Bold"/>
              </a:rPr>
              <a:t>Client Template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85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pperplate Gothic Bold"/>
              </a:rPr>
              <a:t>Animation is Objective # 3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marL="343080" indent="-343080"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tudent will have already planned &amp; designed template for client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pperplate Gothic Bold"/>
              </a:rPr>
              <a:t>Project Planning 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Copperplate Gothic Bold"/>
              </a:rPr>
              <a:t> Template Design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are covered in Objectives # 1 &amp; 2  </a:t>
            </a:r>
            <a:endParaRPr b="0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4419720"/>
            <a:ext cx="3429000" cy="14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ume student has already created a template.  This is a simple template and logo I created forfor an imaginary client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J&amp;B Det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343040" y="60199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5638680"/>
            <a:ext cx="6858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1000" y="1600200"/>
            <a:ext cx="685800" cy="2209680"/>
          </a:xfrm>
          <a:custGeom>
            <a:avLst/>
            <a:gdLst>
              <a:gd name="textAreaLeft" fmla="*/ 438120 w 685800"/>
              <a:gd name="textAreaRight" fmla="*/ 686160 w 6858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5181480" y="7772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4000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4356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168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3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30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3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6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8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0c0c0"/>
                </a:solidFill>
                <a:latin typeface="Copperplate Gothic Bold"/>
              </a:rPr>
              <a:t>Creating a Spy Glass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rcRect l="3369" t="48479" r="60738" b="12111"/>
          <a:stretch/>
        </p:blipFill>
        <p:spPr>
          <a:xfrm>
            <a:off x="0" y="2916360"/>
            <a:ext cx="4786200" cy="39416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 rot="3192000">
            <a:off x="321840" y="4249440"/>
            <a:ext cx="574560" cy="7621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 rot="5400000">
            <a:off x="2458440" y="4706640"/>
            <a:ext cx="574560" cy="7621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7086600" y="4800600"/>
            <a:ext cx="2057400" cy="2057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914400"/>
            <a:ext cx="9144000" cy="380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745720" y="1978200"/>
            <a:ext cx="3869280" cy="485640"/>
            <a:chOff x="2745720" y="1978200"/>
            <a:chExt cx="3869280" cy="485640"/>
          </a:xfrm>
        </p:grpSpPr>
        <p:sp>
          <p:nvSpPr>
            <p:cNvPr id="429" name=""/>
            <p:cNvSpPr/>
            <p:nvPr/>
          </p:nvSpPr>
          <p:spPr>
            <a:xfrm>
              <a:off x="2745720" y="1986120"/>
              <a:ext cx="2543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ving Forward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38680" y="1978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48746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29000" y="2743200"/>
            <a:ext cx="3907080" cy="1467000"/>
            <a:chOff x="3429000" y="2743200"/>
            <a:chExt cx="3907080" cy="1467000"/>
          </a:xfrm>
        </p:grpSpPr>
        <p:sp>
          <p:nvSpPr>
            <p:cNvPr id="432" name=""/>
            <p:cNvSpPr/>
            <p:nvPr/>
          </p:nvSpPr>
          <p:spPr>
            <a:xfrm>
              <a:off x="3429000" y="2743200"/>
              <a:ext cx="3907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Audio Optional for Studen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Sound"/>
            <p:cNvSpPr/>
            <p:nvPr/>
          </p:nvSpPr>
          <p:spPr>
            <a:xfrm>
              <a:off x="6095880" y="3276720"/>
              <a:ext cx="933120" cy="93348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4038480" y="73152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5487480" y="3733920"/>
            <a:ext cx="2789640" cy="1720800"/>
            <a:chOff x="5487480" y="3733920"/>
            <a:chExt cx="2789640" cy="1720800"/>
          </a:xfrm>
        </p:grpSpPr>
        <p:sp>
          <p:nvSpPr>
            <p:cNvPr id="436" name=""/>
            <p:cNvSpPr/>
            <p:nvPr/>
          </p:nvSpPr>
          <p:spPr>
            <a:xfrm>
              <a:off x="5487480" y="4608720"/>
              <a:ext cx="2137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Click Throug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5"/>
            <a:stretch/>
          </p:blipFill>
          <p:spPr>
            <a:xfrm>
              <a:off x="7696080" y="3733920"/>
              <a:ext cx="581040" cy="172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63000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61813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151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216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pperplate Gothic Bold"/>
              </a:rPr>
              <a:t>Creating a Spy Glass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rcRect l="3369" t="48479" r="60738" b="12111"/>
          <a:stretch/>
        </p:blipFill>
        <p:spPr>
          <a:xfrm>
            <a:off x="0" y="2916360"/>
            <a:ext cx="4786200" cy="39416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 rot="3192000">
            <a:off x="321840" y="4249440"/>
            <a:ext cx="574560" cy="7621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 rot="5400000">
            <a:off x="2458440" y="4706640"/>
            <a:ext cx="574560" cy="762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809880" y="1676520"/>
            <a:ext cx="2819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e you familiar with these tools?  If so, let’s move on to the next slide.  If not, go ahead a grab that cir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444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1000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3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5" repeatCount="3000">
                                  <p:stCondLst>
                                    <p:cond delay="1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5" repeatCount="3000">
                                  <p:stCondLst>
                                    <p:cond delay="5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rcRect l="3369" t="48479" r="60738" b="12111"/>
          <a:stretch/>
        </p:blipFill>
        <p:spPr>
          <a:xfrm>
            <a:off x="0" y="2916360"/>
            <a:ext cx="4786200" cy="394164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314280" y="2170080"/>
            <a:ext cx="2333160" cy="1285920"/>
            <a:chOff x="314280" y="2170080"/>
            <a:chExt cx="2333160" cy="1285920"/>
          </a:xfrm>
        </p:grpSpPr>
        <p:sp>
          <p:nvSpPr>
            <p:cNvPr id="448" name=""/>
            <p:cNvSpPr/>
            <p:nvPr/>
          </p:nvSpPr>
          <p:spPr>
            <a:xfrm>
              <a:off x="314280" y="2170080"/>
              <a:ext cx="2295360" cy="12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4400" y="2176560"/>
              <a:ext cx="2273040" cy="1226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324" y="2012"/>
                  </a:moveTo>
                  <a:lnTo>
                    <a:pt x="23440" y="2012"/>
                  </a:lnTo>
                  <a:lnTo>
                    <a:pt x="23440" y="30430"/>
                  </a:lnTo>
                  <a:lnTo>
                    <a:pt x="14450" y="3585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’re going to create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imated Magnifying G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’ll need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circle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few lines,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couple of text box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 rot="19932000">
            <a:off x="5181480" y="1828440"/>
            <a:ext cx="400320" cy="5302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905200" y="4019400"/>
            <a:ext cx="2619360" cy="2629080"/>
          </a:xfrm>
          <a:custGeom>
            <a:avLst/>
            <a:gdLst/>
            <a:ahLst/>
            <a:rect l="l" t="t" r="r" b="b"/>
            <a:pathLst>
              <a:path w="1650" h="1656">
                <a:moveTo>
                  <a:pt x="1650" y="0"/>
                </a:moveTo>
                <a:lnTo>
                  <a:pt x="1650" y="1656"/>
                </a:lnTo>
                <a:lnTo>
                  <a:pt x="0" y="1656"/>
                </a:lnTo>
                <a:lnTo>
                  <a:pt x="0" y="1548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29040" y="3772080"/>
            <a:ext cx="428400" cy="1323720"/>
          </a:xfrm>
          <a:custGeom>
            <a:avLst/>
            <a:gdLst/>
            <a:ahLst/>
            <a:rect l="l" t="t" r="r" b="b"/>
            <a:pathLst>
              <a:path w="300" h="834">
                <a:moveTo>
                  <a:pt x="300" y="0"/>
                </a:moveTo>
                <a:lnTo>
                  <a:pt x="0" y="0"/>
                </a:lnTo>
                <a:lnTo>
                  <a:pt x="0" y="834"/>
                </a:lnTo>
                <a:lnTo>
                  <a:pt x="96" y="834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362400" y="3240000"/>
            <a:ext cx="262872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we’ll select the circl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 can do this a couple of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m the AutoShapes menu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default circle 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pperplate Gothic Bold"/>
              </a:rPr>
              <a:t>Lines, Shapes &amp; Text-boxes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457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1000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6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1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 rot="19932000">
            <a:off x="1555920" y="330012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838080" y="2362320"/>
            <a:ext cx="812880" cy="1015920"/>
          </a:xfrm>
          <a:prstGeom prst="line">
            <a:avLst/>
          </a:prstGeom>
          <a:ln w="1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2362320"/>
            <a:ext cx="1676520" cy="533160"/>
          </a:xfrm>
          <a:prstGeom prst="line">
            <a:avLst/>
          </a:prstGeom>
          <a:ln w="1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2362320"/>
            <a:ext cx="228600" cy="1981080"/>
          </a:xfrm>
          <a:prstGeom prst="line">
            <a:avLst/>
          </a:prstGeom>
          <a:ln w="1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So you’ve selected the </a:t>
            </a:r>
            <a:br>
              <a:rPr sz="2000"/>
            </a:b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circle tool, now lets draw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2666880"/>
            <a:ext cx="21207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ust click 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hold your Shift key, to k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 perfectly r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2260440"/>
            <a:ext cx="1358640" cy="1359000"/>
          </a:xfrm>
          <a:prstGeom prst="ellipse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2171880"/>
            <a:ext cx="2248200" cy="2247840"/>
          </a:xfrm>
          <a:prstGeom prst="ellipse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200320" y="4019400"/>
            <a:ext cx="228600" cy="238320"/>
            <a:chOff x="2200320" y="4019400"/>
            <a:chExt cx="228600" cy="238320"/>
          </a:xfrm>
        </p:grpSpPr>
        <p:sp>
          <p:nvSpPr>
            <p:cNvPr id="468" name=""/>
            <p:cNvSpPr/>
            <p:nvPr/>
          </p:nvSpPr>
          <p:spPr>
            <a:xfrm>
              <a:off x="2314440" y="4019400"/>
              <a:ext cx="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00320" y="4138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pperplate Gothic Bold"/>
              </a:rPr>
              <a:t>Slide #1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542960" y="3295800"/>
            <a:ext cx="228600" cy="237960"/>
            <a:chOff x="1542960" y="3295800"/>
            <a:chExt cx="228600" cy="237960"/>
          </a:xfrm>
        </p:grpSpPr>
        <p:sp>
          <p:nvSpPr>
            <p:cNvPr id="472" name=""/>
            <p:cNvSpPr/>
            <p:nvPr/>
          </p:nvSpPr>
          <p:spPr>
            <a:xfrm>
              <a:off x="1657080" y="329580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42960" y="3414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 rot="19932000">
            <a:off x="685800" y="2133360"/>
            <a:ext cx="399960" cy="530280"/>
          </a:xfrm>
          <a:prstGeom prst="rect">
            <a:avLst/>
          </a:prstGeom>
          <a:ln w="0">
            <a:noFill/>
          </a:ln>
        </p:spPr>
      </p:pic>
      <p:grpSp>
        <p:nvGrpSpPr>
          <p:cNvPr id="475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476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8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35 -0.00231 L 0.09514 0.17014 E">
                                      <p:cBhvr>
                                        <p:cTn id="275" dur="16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5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100"/>
                            </p:stCondLst>
                            <p:childTnLst>
                              <p:par>
                                <p:cTn id="292" nodeType="afterEffect" fill="hold" presetClass="path" presetID="49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66667E-006 2.59259E-006 L 0.07604 0.10139 E">
                                      <p:cBhvr>
                                        <p:cTn id="293" dur="17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1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66680" y="426708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“Snap-shot” view of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82680"/>
            <a:ext cx="77724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squeaky chalk sou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5360" y="3811680"/>
            <a:ext cx="815328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74640" y="463680"/>
            <a:ext cx="4246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Intermediate and Advanc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PowerPoint Desig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57400" y="1321560"/>
            <a:ext cx="55627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Blended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Classroom and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Primarily Process, Procedure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and Princi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Project-based exerc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Final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478008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erminal Objective for sake of demon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52927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nabling Objective for sake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580536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Process &amp; Procedure to demonstrate function of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743200" y="7696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2000"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51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71438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 flipV="1">
            <a:off x="2514600" y="25146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The circle is </a:t>
            </a:r>
            <a:br>
              <a:rPr sz="2000"/>
            </a:b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going to be our 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03200" y="2149560"/>
            <a:ext cx="2266920" cy="2266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 rot="19932000">
            <a:off x="2054160" y="396684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048120" y="2994120"/>
            <a:ext cx="464796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defaulted to a mossy green color – a green tint might look good for a magnifying len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4267080"/>
            <a:ext cx="3124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ough it looks a little dense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t’s drag it over this navy blue 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485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7000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85880" y="985680"/>
            <a:ext cx="2267280" cy="2267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 rot="19932000">
            <a:off x="4343400" y="261576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04920" y="3733920"/>
            <a:ext cx="434340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’s 100% solid,  We’ll need to see through this len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492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03200" y="2149560"/>
            <a:ext cx="2266920" cy="2266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rcRect l="49433" t="20301" r="20294" b="31954"/>
          <a:stretch/>
        </p:blipFill>
        <p:spPr>
          <a:xfrm>
            <a:off x="219240" y="1787400"/>
            <a:ext cx="4039920" cy="4780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 rot="19932000">
            <a:off x="2111400" y="3704760"/>
            <a:ext cx="399960" cy="5302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 rot="19932000">
            <a:off x="2104920" y="3704760"/>
            <a:ext cx="400320" cy="5302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98600" y="1047600"/>
            <a:ext cx="2558880" cy="70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43" y="3503"/>
                </a:moveTo>
                <a:lnTo>
                  <a:pt x="24226" y="3503"/>
                </a:lnTo>
                <a:lnTo>
                  <a:pt x="24226" y="72632"/>
                </a:lnTo>
                <a:lnTo>
                  <a:pt x="20233" y="8659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k, now we’ll select our circle, with our mouse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ght click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i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r short-cut menu will come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375080" y="5472000"/>
            <a:ext cx="2583000" cy="397080"/>
          </a:xfrm>
          <a:prstGeom prst="borderCallout2">
            <a:avLst>
              <a:gd name="adj1" fmla="val 18750"/>
              <a:gd name="adj2" fmla="val -8333"/>
              <a:gd name="adj3" fmla="val 28800"/>
              <a:gd name="adj4" fmla="val -2949"/>
              <a:gd name="adj5" fmla="val 173199"/>
              <a:gd name="adj6" fmla="val -30671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click on Format Aut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 rot="19932000">
            <a:off x="2590920" y="6171840"/>
            <a:ext cx="399960" cy="530280"/>
          </a:xfrm>
          <a:prstGeom prst="rect">
            <a:avLst/>
          </a:prstGeom>
          <a:ln w="0">
            <a:noFill/>
          </a:ln>
        </p:spPr>
      </p:pic>
      <p:grpSp>
        <p:nvGrpSpPr>
          <p:cNvPr id="502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503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8000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7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800"/>
                            </p:stCondLst>
                            <p:childTnLst>
                              <p:par>
                                <p:cTn id="354" nodeType="after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700"/>
                            </p:stCondLst>
                            <p:childTnLst>
                              <p:par>
                                <p:cTn id="358" nodeType="after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2.22222E-006 4.81481E-006 L 0.04722 0.35439 E">
                                      <p:cBhvr>
                                        <p:cTn id="359" dur="13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rcRect l="38096" t="31936" r="29501" b="17698"/>
          <a:stretch/>
        </p:blipFill>
        <p:spPr>
          <a:xfrm>
            <a:off x="2889360" y="1403280"/>
            <a:ext cx="4321080" cy="50371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 rot="19932000">
            <a:off x="2514600" y="616860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01760" y="2147760"/>
            <a:ext cx="2313000" cy="231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1447920"/>
            <a:ext cx="288756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102638"/>
              <a:gd name="adj5" fmla="val 329328"/>
              <a:gd name="adj6" fmla="val 107476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ke sure you’re on the “color” t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90400" y="5019840"/>
            <a:ext cx="2257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you can change the color of the shape and/or it’s transparency, as well as add, change or remove it’s b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523960" y="3285720"/>
            <a:ext cx="1771920" cy="1714680"/>
            <a:chOff x="2523960" y="3285720"/>
            <a:chExt cx="1771920" cy="1714680"/>
          </a:xfrm>
        </p:grpSpPr>
        <p:sp>
          <p:nvSpPr>
            <p:cNvPr id="511" name=""/>
            <p:cNvSpPr/>
            <p:nvPr/>
          </p:nvSpPr>
          <p:spPr>
            <a:xfrm flipV="1">
              <a:off x="2523960" y="3285720"/>
              <a:ext cx="1733760" cy="17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3686040" y="3486240"/>
              <a:ext cx="6098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95760" y="3857760"/>
              <a:ext cx="1904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86200" y="3805200"/>
              <a:ext cx="104760" cy="836640"/>
            </a:xfrm>
            <a:custGeom>
              <a:avLst/>
              <a:gdLst>
                <a:gd name="textAreaLeft" fmla="*/ 66960 w 104760"/>
                <a:gd name="textAreaRight" fmla="*/ 105120 w 104760"/>
                <a:gd name="textAreaTop" fmla="*/ 21600 h 836640"/>
                <a:gd name="textAreaBottom" fmla="*/ 815040 h 8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33"/>
                  </a:lnTo>
                  <a:cubicBezTo>
                    <a:pt x="10800" y="10433"/>
                    <a:pt x="5400" y="11333"/>
                    <a:pt x="0" y="11333"/>
                  </a:cubicBezTo>
                  <a:cubicBezTo>
                    <a:pt x="5400" y="11333"/>
                    <a:pt x="10800" y="12233"/>
                    <a:pt x="10800" y="1313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516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9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8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-4.44444E-006 L 0.0816 -0.51643 E">
                                      <p:cBhvr>
                                        <p:cTn id="372" dur="18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6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38096" t="35619" r="29288" b="18667"/>
          <a:stretch/>
        </p:blipFill>
        <p:spPr>
          <a:xfrm>
            <a:off x="2897280" y="1784520"/>
            <a:ext cx="4349520" cy="4572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401760" y="2147760"/>
            <a:ext cx="2313000" cy="231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rcRect l="49026" t="47622" r="42002" b="49476"/>
          <a:stretch/>
        </p:blipFill>
        <p:spPr>
          <a:xfrm>
            <a:off x="4344840" y="2978280"/>
            <a:ext cx="1197000" cy="2905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rcRect l="60360" t="50689" r="35858" b="46636"/>
          <a:stretch/>
        </p:blipFill>
        <p:spPr>
          <a:xfrm>
            <a:off x="5851440" y="3279600"/>
            <a:ext cx="505080" cy="268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4"/>
          <a:srcRect l="50062" t="51255" r="48583" b="47003"/>
          <a:stretch/>
        </p:blipFill>
        <p:spPr>
          <a:xfrm>
            <a:off x="4483080" y="3343320"/>
            <a:ext cx="181080" cy="1746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5"/>
          <a:srcRect l="51312" t="50751" r="43311" b="46571"/>
          <a:stretch/>
        </p:blipFill>
        <p:spPr>
          <a:xfrm>
            <a:off x="4649760" y="3289320"/>
            <a:ext cx="717480" cy="2682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 rot="19932000">
            <a:off x="4460760" y="3331800"/>
            <a:ext cx="400320" cy="5302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 rot="19932000">
            <a:off x="3260880" y="263484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55680" y="3013200"/>
            <a:ext cx="22860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 want to keep some color, but need to be sure we can see through it.  We’ll drag the bar to 70% trans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529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8000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5.55112E-017 -2.22222E-006 L 0.13212 0.10185 E">
                                      <p:cBhvr>
                                        <p:cTn id="387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3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5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6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63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4.16667E-006 -4.44444E-006 L 0.06684 -4.44444E-006 E">
                                      <p:cBhvr>
                                        <p:cTn id="398" dur="6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63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3.05556E-006 -3.33333E-006 L 0.06893 -3.33333E-006 E">
                                      <p:cBhvr>
                                        <p:cTn id="400" dur="6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5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3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8">
                                  <p:stCondLst>
                                    <p:cond delay="5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2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6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3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rcRect l="38096" t="35619" r="29288" b="18667"/>
          <a:stretch/>
        </p:blipFill>
        <p:spPr>
          <a:xfrm>
            <a:off x="2897280" y="1784520"/>
            <a:ext cx="4349520" cy="45720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 rot="19932000">
            <a:off x="5072040" y="332064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324480" y="5334120"/>
            <a:ext cx="14194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nd click 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1760" y="2147760"/>
            <a:ext cx="2313000" cy="231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536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4000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2.77778E-007 -6.35838E-007 L -0.01858 0.36393 E">
                                      <p:cBhvr>
                                        <p:cTn id="415" dur="6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4560" y="2249640"/>
            <a:ext cx="2266920" cy="2266920"/>
          </a:xfrm>
          <a:prstGeom prst="ellipse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25640" y="817560"/>
            <a:ext cx="2257200" cy="66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’s see what it looks like when  we drag it over the bar, to at 70% trans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 rot="19932000">
            <a:off x="4924440" y="5864040"/>
            <a:ext cx="399960" cy="529920"/>
          </a:xfrm>
          <a:prstGeom prst="rect">
            <a:avLst/>
          </a:prstGeom>
          <a:ln w="0">
            <a:noFill/>
          </a:ln>
        </p:spPr>
      </p:pic>
      <p:grpSp>
        <p:nvGrpSpPr>
          <p:cNvPr id="542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543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path" presetID="35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1.11022E-016 L -0.30209 -0.27153 E">
                                      <p:cBhvr>
                                        <p:cTn id="421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85880" y="985680"/>
            <a:ext cx="2267280" cy="2267280"/>
          </a:xfrm>
          <a:prstGeom prst="ellipse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 rot="19932000">
            <a:off x="4343400" y="261576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401760" y="368280"/>
            <a:ext cx="2257200" cy="66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ol!  You can see right through it.  But we’re just getting started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550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5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520560" y="3092400"/>
            <a:ext cx="2292480" cy="2292480"/>
          </a:xfrm>
          <a:prstGeom prst="ellipse">
            <a:avLst/>
          </a:prstGeom>
          <a:solidFill>
            <a:srgbClr val="99cc00">
              <a:alpha val="3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rcRect l="5624" t="27491" r="33232" b="30854"/>
          <a:stretch/>
        </p:blipFill>
        <p:spPr>
          <a:xfrm>
            <a:off x="157320" y="1447920"/>
            <a:ext cx="7826040" cy="426708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626760" y="3198960"/>
            <a:ext cx="2080080" cy="2079000"/>
            <a:chOff x="626760" y="3198960"/>
            <a:chExt cx="2080080" cy="2079000"/>
          </a:xfrm>
        </p:grpSpPr>
        <p:sp>
          <p:nvSpPr>
            <p:cNvPr id="555" name=""/>
            <p:cNvSpPr/>
            <p:nvPr/>
          </p:nvSpPr>
          <p:spPr>
            <a:xfrm>
              <a:off x="1681200" y="4494240"/>
              <a:ext cx="0" cy="78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81200" y="3198960"/>
              <a:ext cx="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26760" y="4265640"/>
              <a:ext cx="784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922760" y="4265640"/>
              <a:ext cx="784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4572000" y="1811160"/>
            <a:ext cx="2971800" cy="146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359400" y="1400040"/>
            <a:ext cx="838440" cy="7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99280" y="1400040"/>
            <a:ext cx="838080" cy="7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d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924680" y="4724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48440" y="303696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48040" y="474012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2311200" y="2390760"/>
            <a:ext cx="6019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SzPct val="1499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There’s still a lot more to learn in this objective</a:t>
            </a:r>
            <a:endParaRPr b="0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-242640">
              <a:spcBef>
                <a:spcPts val="1001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Like draw perfectly aligned target-lines</a:t>
            </a: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-242640">
              <a:spcBef>
                <a:spcPts val="1001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Create “magnifiable text”</a:t>
            </a: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-242640">
              <a:spcBef>
                <a:spcPts val="1001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AND navigate and desig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motion paths</a:t>
            </a: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. . . And this is this ju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pperplate Gothic Bold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 Objective!</a:t>
            </a: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6" name=""/>
          <p:cNvSpPr/>
          <p:nvPr/>
        </p:nvSpPr>
        <p:spPr>
          <a:xfrm>
            <a:off x="2585880" y="985680"/>
            <a:ext cx="2267280" cy="2267280"/>
          </a:xfrm>
          <a:prstGeom prst="ellipse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L -0.22344 0.31319 E">
                                      <p:cBhvr>
                                        <p:cTn id="427" dur="1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3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32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9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3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57" dur="1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22" presetSubtype="4">
                                  <p:stCondLst>
                                    <p:cond delay="11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9" dur="2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2" presetSubtype="4">
                                  <p:stCondLst>
                                    <p:cond delay="11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2" dur="2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6858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528600" y="1357200"/>
            <a:ext cx="441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d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02240" y="1281240"/>
            <a:ext cx="816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819520"/>
            <a:ext cx="2286000" cy="2286000"/>
            <a:chOff x="533520" y="2819520"/>
            <a:chExt cx="2286000" cy="2286000"/>
          </a:xfrm>
        </p:grpSpPr>
        <p:sp>
          <p:nvSpPr>
            <p:cNvPr id="571" name=""/>
            <p:cNvSpPr/>
            <p:nvPr/>
          </p:nvSpPr>
          <p:spPr>
            <a:xfrm>
              <a:off x="533520" y="2819520"/>
              <a:ext cx="2286000" cy="2286000"/>
            </a:xfrm>
            <a:prstGeom prst="ellipse">
              <a:avLst/>
            </a:prstGeom>
            <a:solidFill>
              <a:srgbClr val="99cc00">
                <a:alpha val="3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76520" y="4191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33520" y="396252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1905120" y="396252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76520" y="2819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311560" y="2390760"/>
            <a:ext cx="6019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Thank you for taking the time to view my proto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1200" y="3429000"/>
            <a:ext cx="53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9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I look forward to your feed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9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9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9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Justin Kenn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6521400"/>
            <a:ext cx="53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229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Edtec 544: Dr. Maria Schu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7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44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3.33333E-006 2.22222E-006 C -3.33333E-006 0.00023 0.1698 -0.30047 0.25712 -0.36042 C 0.34427 -0.42037 0.48039 -0.38982 0.55295 -0.36204 C 0.62535 -0.33426 0.69306 -0.26759 0.69115 -0.19375 C 0.68924 -0.12037 0.5724 0.02384 0.54115 0.08102 E">
                                      <p:cBhvr>
                                        <p:cTn id="484" dur="43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3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8">
                                  <p:stCondLst>
                                    <p:cond delay="59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9" dur="3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8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8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382680"/>
            <a:ext cx="77724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squeaky chalk sou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360" y="3811680"/>
            <a:ext cx="815328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1360" y="463680"/>
            <a:ext cx="2387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The Eigh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1229040"/>
            <a:ext cx="556272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queaky chalk sound"/>
              </a:rPr>
              <a:t>Click through 8-ste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queaky chalk sound"/>
              </a:rPr>
              <a:t>Description of Enabling objective is self-run (don’t cl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queaky chalk sound"/>
              </a:rPr>
              <a:t>Demonstration of Enabling Objective is self-run too (no au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419720" y="7238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8000"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56519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7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16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30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62120" y="15238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88"/>
              </a:spcBef>
              <a:buClr>
                <a:srgbClr val="ffffff"/>
              </a:buClr>
              <a:buFont typeface="squeaky chalk sou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383640" y="3429000"/>
            <a:ext cx="250488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Justin Kennedy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squeaky chalk sound"/>
              </a:rPr>
              <a:t>Edtech 544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squeaky chalk sound"/>
              </a:rPr>
              <a:t>Dr. Maria Schu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0" y="-9604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995560" y="2057400"/>
            <a:ext cx="32972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queaky chalk sound"/>
              </a:rPr>
              <a:t>Project Proto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62120" y="95256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788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Planning a Presentation: Given a topic, client and audience, Student will design a comprehensive client presentation story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88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earch Topic: Student will identify and access appropriate research sources for subject matter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88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earch Audience: Given the client's target audience and budget, Student will identify and design most practical manner of gathering audienc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88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view Client/SME: Provided with learning objectives and appropriate access, Student will successfully gather and distill the most relevant information to be included in the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88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 Materials: Given topic, audience and access to the client, Student will list a least 3 outside resources appropriate for given presen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88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n Project: Given, budget and deadlines, Student will draft a visual timeline for completion of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32000" y="520560"/>
            <a:ext cx="478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One:  Projec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16920" y="4629240"/>
            <a:ext cx="221076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ily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54680" y="4629240"/>
            <a:ext cx="3003120" cy="96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se Study, Inquiry, Role-Play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ion and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5924520"/>
            <a:ext cx="434340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62120" y="96696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Designing the Template: Student will successfully demonstrate and discuss design considerations for a specific client's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Resources: Given client, topic and projected budget, Student will identify necessary tangible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Color Palate: Given access to client's assets Student will create a color palate that appropriately reflects client's branding and intent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Master Slide: Given access to client's assets, Student will create a master slide featuring theme reflective of client's br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Title &amp; Additional Masters: Provided with access to client’s assets, Student will successfully design additional master slides that reflect client branding while also distinguishing themsel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Master Layouts: Given appropriate assets, Student will design master slide layouts that compliment and reflect the design and branding of the over all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Unique Layouts: Student will be able to evaluate content and assess as to where and when a customized design and/or layout might be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7440" y="520560"/>
            <a:ext cx="4854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Two:  Templ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5120" y="4629240"/>
            <a:ext cx="234792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dure and Princi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84720" y="4629240"/>
            <a:ext cx="2889000" cy="96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se Study, Inquiry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ion and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5924520"/>
            <a:ext cx="434340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62120" y="8953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esent Four Animation Functions: Student will demonstrate animation of multiple objects featuring complex uses of the four primary animation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Animation &amp; Layout Tools: Student will demonstrate a working knowledge of the  most important animation tools without use of 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Combing Animation Functions: Student will successfully apply multiple animation functions to a single object requiring no more than an equal number of mouse clicks to execute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ine Animation Principles: Student will demonstrate an understanding of the appropriate use of animation based upon audience and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55280" y="520560"/>
            <a:ext cx="415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Three:  </a:t>
            </a:r>
            <a:r>
              <a:rPr b="0" lang="en-US" sz="2400" spc="-1" strike="noStrike">
                <a:solidFill>
                  <a:srgbClr val="ffff66"/>
                </a:solidFill>
                <a:latin typeface="squeaky chalk sound"/>
              </a:rPr>
              <a:t>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15120" y="4629240"/>
            <a:ext cx="319536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, Procedure and Princi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89760" y="4629240"/>
            <a:ext cx="288900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ion and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5924520"/>
            <a:ext cx="434340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2120" y="8953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Incorporate Multimedia: Student demonstrates competence in incorporating and testing linked and embedded multi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uss Linking v. Embedding: Student will demonstrate an ability to determine which specific procedures are required for incorporating a variety of media file types into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Incorporation of Media: Student will demonstrate the ability to execute proper multimedia embedding and linking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nowledge of Obstacles: Student will anticipate and successfully troubleshoot the most common obstacles to successfully incorporating multimed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80080" y="520560"/>
            <a:ext cx="5115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Four:  Use of 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17280" y="4629240"/>
            <a:ext cx="3251520" cy="7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, Procedure an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89040" y="4629240"/>
            <a:ext cx="247752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62480" y="5924520"/>
            <a:ext cx="510516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,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62120" y="8953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3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iming Functions: Student will master the advanced timeline functions to synchronize precise execution of audio and video in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Basic Animation Timing: Student will successfully convert animation from mouse-click mode to standard timing mode so that it runs successfully in slideshow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Timeline Hierarchy: Student will master use of the advanced timeline function  so as to ensure each action executes at the exact moment int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Audio Timing: Utilizing the advanced timeline function, Student will successfully demonstrate incorporating audio into a presentation so that it plays in perfect, timed sequence with multiple animations and slide tran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941920" y="520560"/>
            <a:ext cx="339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Five: 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16920" y="4629240"/>
            <a:ext cx="2210760" cy="7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89040" y="4629240"/>
            <a:ext cx="247752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5924520"/>
            <a:ext cx="434340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762120" y="8953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Incorporating Interactive Elements: Student will demonstrate ability to convert a presentation into an interactive functional program in Power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emonstrate Hyperlinking: Student will successfully utilize the hyperlink function so that users can understand and interact with 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emonstrate Action Settings: Student will successfully create actions and action buttons so that users can utilize them and understand their fun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emonstrate Protecting/Securing Action Settings: Student will anticipate potential vulnerabilities and secure post-edit presentations so that complex actions cannot be compromised by us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056320" y="520560"/>
            <a:ext cx="518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Six:  Interac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16920" y="4629240"/>
            <a:ext cx="2210760" cy="7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89040" y="4629240"/>
            <a:ext cx="247752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924520"/>
            <a:ext cx="434340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2:46:47Z</dcterms:created>
  <dc:creator>Bryan Bellomo</dc:creator>
  <dc:description/>
  <dc:language>en-US</dc:language>
  <cp:lastModifiedBy>Justin Kennedy</cp:lastModifiedBy>
  <dcterms:modified xsi:type="dcterms:W3CDTF">2009-12-19T23:59:12Z</dcterms:modified>
  <cp:revision>72</cp:revision>
  <dc:subject/>
  <dc:title>Slide 1</dc:title>
</cp:coreProperties>
</file>