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DEB5-A708-4B2F-9001-EE6743D196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7480-75C3-499A-89E8-0819D62300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CAFD-1ACD-4486-AEED-2DA556407B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8F3B-1BA9-4A59-9A6B-59A463FDD4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8680-4A26-4776-82A9-4E847FA87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EC12-9F83-4B5A-AF7F-3591D8747B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D21F-B9A3-4081-BAAF-0DF5116B57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871F-224D-45C2-AF77-41938B552A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4975-D473-404A-B4AC-D707CD8A68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2242-DAE5-434B-ABD0-C3C4451EA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53F4-7790-44C7-9315-4052137E2A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39E7-DE84-46DF-9F36-7E4ED6E81C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B124-4FF7-4AE0-93AD-3AD1917C5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8B7D-C067-4E65-95E4-DF022F4902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187D-5FBF-4B25-BD45-EE8BC6D34A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0E4C-5FBD-435E-ADFF-C9727F2F1B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24E7-6CA2-4BEA-A64F-86EC8E9B06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A5F7-B9E0-4392-A191-7A76D41A94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78C0-7BB1-4D04-ADC4-500051322B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351C-595B-4410-B579-3617E8D476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3405-3117-4562-BBC3-DC0A4A1624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D647-BE5A-46D8-8C22-5F8BB0D384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9F9C-5C3D-49B0-A341-85F56528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20D4-4C4E-4555-BC22-5AD26913A9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15960" y="304920"/>
            <a:ext cx="7924680" cy="35049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3583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918520" y="3299040"/>
            <a:ext cx="1805040" cy="519840"/>
            <a:chOff x="2918520" y="3299040"/>
            <a:chExt cx="1805040" cy="519840"/>
          </a:xfrm>
        </p:grpSpPr>
        <p:sp>
          <p:nvSpPr>
            <p:cNvPr id="7" name=""/>
            <p:cNvSpPr/>
            <p:nvPr/>
          </p:nvSpPr>
          <p:spPr>
            <a:xfrm rot="430200">
              <a:off x="2968560" y="3331800"/>
              <a:ext cx="533520" cy="75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430200">
              <a:off x="3052440" y="340668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430200">
              <a:off x="2920680" y="3709440"/>
              <a:ext cx="5335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430200">
              <a:off x="3352320" y="3642840"/>
              <a:ext cx="1371600" cy="763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6629400" y="3735360"/>
            <a:ext cx="533520" cy="76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queaky chalk sou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queaky chalk sou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queaky chalk sou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queaky chalk sou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queaky chalk sou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queaky chalk sou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queaky chalk sou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queaky chalk soun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57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queaky chalk sou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queaky chalk sou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queaky chalk sou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queaky chalk sou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queaky chalk sou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queaky chalk sou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squeaky chalk sou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queaky chalk sou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queaky chalk sou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queaky chalk sou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queaky chalk sou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eaky chalk sou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queaky chalk sou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0" y="838080"/>
            <a:ext cx="9141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34240" y="5334120"/>
            <a:ext cx="1409760" cy="1523880"/>
            <a:chOff x="7734240" y="5334120"/>
            <a:chExt cx="1409760" cy="1523880"/>
          </a:xfrm>
        </p:grpSpPr>
        <p:sp>
          <p:nvSpPr>
            <p:cNvPr id="102" name=""/>
            <p:cNvSpPr/>
            <p:nvPr/>
          </p:nvSpPr>
          <p:spPr>
            <a:xfrm>
              <a:off x="7776720" y="6332400"/>
              <a:ext cx="1366920" cy="52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874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734240" y="5334120"/>
              <a:ext cx="140976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71280" y="6553080"/>
            <a:ext cx="43434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84DC-0BA5-46A5-A1BA-15ABD34E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151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7734240" y="5334120"/>
            <a:ext cx="1409760" cy="1523880"/>
            <a:chOff x="7734240" y="5334120"/>
            <a:chExt cx="1409760" cy="1523880"/>
          </a:xfrm>
        </p:grpSpPr>
        <p:sp>
          <p:nvSpPr>
            <p:cNvPr id="193" name=""/>
            <p:cNvSpPr/>
            <p:nvPr/>
          </p:nvSpPr>
          <p:spPr>
            <a:xfrm>
              <a:off x="7776720" y="6332400"/>
              <a:ext cx="1366920" cy="52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874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7734240" y="5334120"/>
              <a:ext cx="140976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71280" y="6553080"/>
            <a:ext cx="43434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8746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884-FC25-4EB2-9C96-847198F1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960" y="304920"/>
            <a:ext cx="7924680" cy="5648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242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660000%5B1%5D.wav" TargetMode="External"/><Relationship Id="rId2" Type="http://schemas.microsoft.com/office/2007/relationships/media" Target="file:///tmp/home/.config/libreoffice/4/user/gallery/MSj03885660000%5B1%5D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380880"/>
            <a:ext cx="7772400" cy="58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1600" spc="-1" strike="noStrike">
                <a:solidFill>
                  <a:srgbClr val="ffff66"/>
                </a:solidFill>
                <a:latin typeface="squeaky chalk sound"/>
              </a:rPr>
              <a:t>December 16, 2009  </a:t>
            </a:r>
            <a:br>
              <a:rPr sz="1600"/>
            </a:br>
            <a:r>
              <a:rPr b="0" lang="en-US" sz="1600" spc="-1" strike="noStrike">
                <a:solidFill>
                  <a:srgbClr val="ffff66"/>
                </a:solidFill>
                <a:latin typeface="squeaky chalk sound"/>
              </a:rPr>
              <a:t>Justin Kenned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Edtech 544 - Dr. Maria S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5360" y="5956200"/>
            <a:ext cx="8153280" cy="3682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5734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17440" y="5376960"/>
            <a:ext cx="1806840" cy="599040"/>
            <a:chOff x="2917440" y="5376960"/>
            <a:chExt cx="1806840" cy="599040"/>
          </a:xfrm>
        </p:grpSpPr>
        <p:sp>
          <p:nvSpPr>
            <p:cNvPr id="287" name=""/>
            <p:cNvSpPr/>
            <p:nvPr/>
          </p:nvSpPr>
          <p:spPr>
            <a:xfrm rot="430200">
              <a:off x="2968200" y="5409720"/>
              <a:ext cx="533520" cy="889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30200">
              <a:off x="3052440" y="5497200"/>
              <a:ext cx="304920" cy="358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30200">
              <a:off x="2920680" y="5853240"/>
              <a:ext cx="533520" cy="89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30200">
              <a:off x="3352320" y="5775120"/>
              <a:ext cx="1371600" cy="896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629400" y="5834160"/>
            <a:ext cx="533520" cy="122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762120"/>
            <a:ext cx="739152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queaky chalk sound"/>
              </a:rPr>
              <a:t>Intermediate and Advanced PowerPoint </a:t>
            </a:r>
            <a:r>
              <a:rPr b="0" lang="en-US" sz="5400" spc="-1" strike="noStrike">
                <a:solidFill>
                  <a:srgbClr val="ffff66"/>
                </a:solidFill>
                <a:latin typeface="squeaky chalk sound"/>
              </a:rPr>
              <a:t>Desig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0" y="5397480"/>
            <a:ext cx="3657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5519520" y="5738400"/>
            <a:ext cx="76320" cy="381240"/>
          </a:xfrm>
          <a:prstGeom prst="can">
            <a:avLst>
              <a:gd name="adj" fmla="val 12083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6200000"/>
          </a:gra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46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4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iterate type="lt">
                                    <p:tmAbs val="118.51852416992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54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243 0.00648 C -0.00972 -0.00301 -0.01198 -0.0081 -0.02083 -0.01342 C -0.02413 -0.01527 -0.0309 -0.01782 -0.0309 -0.01759 C -0.03524 -0.02384 -0.03975 -0.02639 -0.04583 -0.02893 C -0.0526 -0.03518 -0.05955 -0.0375 -0.06753 -0.04004 C -0.06996 -0.04352 -0.07361 -0.04537 -0.07586 -0.04907 C -0.07691 -0.05092 -0.07656 -0.0537 -0.07743 -0.05578 C -0.03194 -0.0574 0.13386 -0.05787 0.19844 -0.05856 C 0.24584 -0.05949 0.18872 -0.06041 0.2073 -0.06064 C 0.22587 -0.06088 0.28855 -0.06041 0.3099 -0.06041 E">
                                      <p:cBhvr>
                                        <p:cTn id="17" dur="26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2700000">
                                      <p:cBhvr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Using Multiple Masters: Student will master incorporating and applying additional master slides to existing present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iscuss Multiple &amp; Alternative Masters: Student understands and can discuss in an informed manner, when the use of additional master slides are necess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ating &amp; Applying Additional Masters: Student will demonstrate ability to create, modify and selectively apply additional master slides within a pres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52240" y="520560"/>
            <a:ext cx="46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Seven:  Mast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7640" y="4629240"/>
            <a:ext cx="236160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and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9760" y="4629240"/>
            <a:ext cx="28890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 and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2480" y="5924520"/>
            <a:ext cx="510516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66"/>
                </a:solidFill>
                <a:latin typeface="Arial"/>
              </a:rPr>
              <a:t>Optimize Presentation: Student will demonstrate ability to reduce file size and identify and discard unnecessary data embedded in present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amine Files Size and Links: Student will know how to locate and check the integrity of links and current size of pres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Packing Presentation Options: Student will master process of packaging a presentation tor delivery via CD/DVD and other 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Finding Hidden Problems: Student will master deconstructing  potentially corrupted presentations and identify specific probl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monstrate File Reduction Techniques: Student demonstrates understanding of how and why reducing file size can be import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46920" y="520560"/>
            <a:ext cx="442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Eight: 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9080" y="4629240"/>
            <a:ext cx="356544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Procedure and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/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1680" y="5924520"/>
            <a:ext cx="335268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/Inqu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62440" y="5924520"/>
            <a:ext cx="49165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5960" y="304920"/>
            <a:ext cx="7924680" cy="35049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gradFill rotWithShape="0">
            <a:gsLst>
              <a:gs pos="0">
                <a:srgbClr val="284035"/>
              </a:gs>
              <a:gs pos="50000">
                <a:srgbClr val="487460"/>
              </a:gs>
              <a:gs pos="100000">
                <a:srgbClr val="284035"/>
              </a:gs>
            </a:gsLst>
            <a:lin ang="108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Projec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empla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70760" y="520560"/>
            <a:ext cx="225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Proje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3583080"/>
            <a:ext cx="914400" cy="228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36363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918520" y="3299040"/>
            <a:ext cx="1805040" cy="519840"/>
            <a:chOff x="2918520" y="3299040"/>
            <a:chExt cx="1805040" cy="519840"/>
          </a:xfrm>
        </p:grpSpPr>
        <p:sp>
          <p:nvSpPr>
            <p:cNvPr id="364" name=""/>
            <p:cNvSpPr/>
            <p:nvPr/>
          </p:nvSpPr>
          <p:spPr>
            <a:xfrm rot="430200">
              <a:off x="2968560" y="3331800"/>
              <a:ext cx="533520" cy="75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430200">
              <a:off x="3052440" y="3406680"/>
              <a:ext cx="304920" cy="3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1036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430200">
              <a:off x="2920680" y="3709440"/>
              <a:ext cx="5335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430200">
              <a:off x="3352320" y="3642840"/>
              <a:ext cx="1371600" cy="763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629400" y="3735360"/>
            <a:ext cx="533520" cy="76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Animation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1313280"/>
            <a:ext cx="430560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Interactiv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Master Sl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queaky chalk sou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2689200"/>
            <a:ext cx="2133720" cy="81000"/>
          </a:xfrm>
          <a:custGeom>
            <a:avLst/>
            <a:gdLst/>
            <a:ahLst/>
            <a:rect l="l" t="t" r="r" b="b"/>
            <a:pathLst>
              <a:path w="1392" h="15">
                <a:moveTo>
                  <a:pt x="0" y="3"/>
                </a:moveTo>
                <a:lnTo>
                  <a:pt x="47" y="3"/>
                </a:lnTo>
                <a:lnTo>
                  <a:pt x="678" y="15"/>
                </a:lnTo>
                <a:lnTo>
                  <a:pt x="1232" y="0"/>
                </a:lnTo>
                <a:lnTo>
                  <a:pt x="1392" y="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5500440" y="3579480"/>
            <a:ext cx="76320" cy="381240"/>
          </a:xfrm>
          <a:prstGeom prst="can">
            <a:avLst>
              <a:gd name="adj" fmla="val 12083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6200000"/>
          </a:gra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609480"/>
            <a:ext cx="1479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15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105520" y="7315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8000"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57375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8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9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08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6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1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13300"/>
                                  </p:stCondLst>
                                  <p:iterate type="lt">
                                    <p:tmAbs val="32.0513141155243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17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21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46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30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4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29100"/>
                                  </p:stCondLst>
                                  <p:childTnLst>
                                    <p:animMotion origin="layout" path="M -0.00208 0.00463 C -0.00938 -0.00485 -0.01146 -0.00994 -0.02049 -0.01526 C -0.1033 -0.03977 -0.43108 -0.1015 -0.49427 -0.12323 L -0.51406 -0.13641 C -0.49653 -0.13849 -0.42726 -0.13641 -0.38924 -0.13641 C -0.35122 -0.13641 -0.31007 -0.13156 -0.28542 -0.13641 E">
                                      <p:cBhvr>
                                        <p:cTn id="105" dur="26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6">
                                  <p:stCondLst>
                                    <p:cond delay="30600"/>
                                  </p:stCondLst>
                                  <p:iterate type="lt">
                                    <p:tmAbs val="1.02445451943822E-005"/>
                                  </p:iterate>
                                  <p:childTnLst>
                                    <p:set>
                                      <p:cBhvr>
                                        <p:cTn id="107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108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109" dur="11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41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49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51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87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66320" y="434880"/>
            <a:ext cx="166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5440" y="4267080"/>
            <a:ext cx="3808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5440" y="4789440"/>
            <a:ext cx="38088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5440" y="5313240"/>
            <a:ext cx="3808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5440" y="5837400"/>
            <a:ext cx="38088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ur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2819520"/>
            <a:ext cx="4419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Terminal Objectives revolve around a single project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66560" y="10000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queaky chalk sound"/>
              </a:rPr>
              <a:t>Terminal 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5110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imation Enabling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4191120"/>
            <a:ext cx="1067040" cy="2209680"/>
          </a:xfrm>
          <a:custGeom>
            <a:avLst/>
            <a:gdLst>
              <a:gd name="textAreaLeft" fmla="*/ 0 w 1067040"/>
              <a:gd name="textAreaRight" fmla="*/ 385200 w 10670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1414440"/>
            <a:ext cx="73882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Animating Objects: Student will design functional slides reflecting an appropriate use of animated objects that enhance the content of a given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343400" y="769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4313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9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4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990800" y="2305080"/>
            <a:ext cx="2305080" cy="331920"/>
          </a:xfrm>
          <a:prstGeom prst="rect">
            <a:avLst/>
          </a:pr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586560" y="2332080"/>
            <a:ext cx="838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queaky chalk sound"/>
                <a:ea typeface="Arial"/>
              </a:rPr>
              <a:t>AD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86560" y="2308320"/>
            <a:ext cx="838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eaky chalk sound"/>
                <a:ea typeface="Arial"/>
              </a:rPr>
              <a:t>AD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427500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Animation Tools &amp;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4797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Rev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5319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ultiple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58435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f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638320" y="3470760"/>
            <a:ext cx="2957040" cy="3391200"/>
            <a:chOff x="5638320" y="3470760"/>
            <a:chExt cx="2957040" cy="3391200"/>
          </a:xfrm>
        </p:grpSpPr>
        <p:sp>
          <p:nvSpPr>
            <p:cNvPr id="403" name=""/>
            <p:cNvSpPr/>
            <p:nvPr/>
          </p:nvSpPr>
          <p:spPr>
            <a:xfrm rot="3130200">
              <a:off x="7222320" y="6080040"/>
              <a:ext cx="1614240" cy="178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2268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638320" y="3470760"/>
              <a:ext cx="2647080" cy="2647080"/>
              <a:chOff x="5638320" y="3470760"/>
              <a:chExt cx="2647080" cy="2647080"/>
            </a:xfrm>
          </p:grpSpPr>
          <p:sp>
            <p:nvSpPr>
              <p:cNvPr id="405" name=""/>
              <p:cNvSpPr/>
              <p:nvPr/>
            </p:nvSpPr>
            <p:spPr>
              <a:xfrm rot="3083400">
                <a:off x="6019920" y="3852360"/>
                <a:ext cx="1883520" cy="188352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263640" y="4920120"/>
                <a:ext cx="540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156800" y="4206960"/>
                <a:ext cx="5407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6379920" y="4067640"/>
                <a:ext cx="432720" cy="5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7093440" y="4961160"/>
                <a:ext cx="43272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1143000" y="907920"/>
            <a:ext cx="6781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squeaky chalk sound"/>
              </a:rPr>
              <a:t>The project for the Animation Terminal Objective is to create a </a:t>
            </a:r>
            <a:r>
              <a:rPr b="1" lang="en-US" sz="1700" spc="-1" strike="noStrike">
                <a:solidFill>
                  <a:srgbClr val="ffff66"/>
                </a:solidFill>
                <a:latin typeface="squeaky chalk sound"/>
              </a:rPr>
              <a:t>“Magnifying Glass”</a:t>
            </a:r>
            <a:r>
              <a:rPr b="0" lang="en-US" sz="1700" spc="-1" strike="noStrike">
                <a:solidFill>
                  <a:srgbClr val="ffffff"/>
                </a:solidFill>
                <a:latin typeface="squeaky chalk sound"/>
              </a:rPr>
              <a:t> animate it, and create the impression it actually work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9000" y="2009880"/>
            <a:ext cx="5315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Students build a presentation for fictional client: a Detective Agency.  A Cross-objective project.  Students’ Planning and Basic Design Objectives precede this exerc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66320" y="434880"/>
            <a:ext cx="166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3886200"/>
            <a:ext cx="5181480" cy="274320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67280" y="7543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1000"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0063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4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179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4">
                                  <p:stCondLst>
                                    <p:cond delay="17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9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9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1">
                                  <p:stCondLst>
                                    <p:cond delay="46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4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>
                                  <p:stCondLst>
                                    <p:cond delay="275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lient Template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pperplate Gothic Bold"/>
              </a:rPr>
              <a:t>Animation is Objective # 3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marL="343080" indent="-343080"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Student will have already planned &amp; designed template for client</a:t>
            </a: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Project Planning 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opperplate Gothic Bold"/>
              </a:rPr>
              <a:t> Template Design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are covered in Objectives # 1 &amp; 2  </a:t>
            </a:r>
            <a:endParaRPr b="0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4419720"/>
            <a:ext cx="3429000" cy="14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ume student has already created a template.  This is a simple template and logo I created forfor an imaginary client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J&amp;B Det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343040" y="6019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638680"/>
            <a:ext cx="6858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000" y="1600200"/>
            <a:ext cx="685800" cy="2209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181480" y="7772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4000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4356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168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3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30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6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c0c0"/>
                </a:solidFill>
                <a:latin typeface="Copperplate Gothic Bold"/>
              </a:rPr>
              <a:t>Creating a Spy Glas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 rot="3192000">
            <a:off x="321840" y="4249440"/>
            <a:ext cx="574560" cy="762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 rot="5400000">
            <a:off x="2458440" y="470664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086600" y="4800600"/>
            <a:ext cx="2057400" cy="2057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914400"/>
            <a:ext cx="9144000" cy="380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745720" y="1978200"/>
            <a:ext cx="3869280" cy="485640"/>
            <a:chOff x="2745720" y="1978200"/>
            <a:chExt cx="3869280" cy="485640"/>
          </a:xfrm>
        </p:grpSpPr>
        <p:sp>
          <p:nvSpPr>
            <p:cNvPr id="429" name=""/>
            <p:cNvSpPr/>
            <p:nvPr/>
          </p:nvSpPr>
          <p:spPr>
            <a:xfrm>
              <a:off x="2745720" y="1986120"/>
              <a:ext cx="254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ving Forward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38680" y="1978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48746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29000" y="2743200"/>
            <a:ext cx="3907080" cy="1467000"/>
            <a:chOff x="3429000" y="2743200"/>
            <a:chExt cx="3907080" cy="1467000"/>
          </a:xfrm>
        </p:grpSpPr>
        <p:sp>
          <p:nvSpPr>
            <p:cNvPr id="432" name=""/>
            <p:cNvSpPr/>
            <p:nvPr/>
          </p:nvSpPr>
          <p:spPr>
            <a:xfrm>
              <a:off x="3429000" y="2743200"/>
              <a:ext cx="3907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udio Optional for Studen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ound"/>
            <p:cNvSpPr/>
            <p:nvPr/>
          </p:nvSpPr>
          <p:spPr>
            <a:xfrm>
              <a:off x="6095880" y="3276720"/>
              <a:ext cx="933120" cy="93348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4038480" y="73152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5487480" y="3733920"/>
            <a:ext cx="2789640" cy="1720800"/>
            <a:chOff x="5487480" y="3733920"/>
            <a:chExt cx="2789640" cy="1720800"/>
          </a:xfrm>
        </p:grpSpPr>
        <p:sp>
          <p:nvSpPr>
            <p:cNvPr id="436" name=""/>
            <p:cNvSpPr/>
            <p:nvPr/>
          </p:nvSpPr>
          <p:spPr>
            <a:xfrm>
              <a:off x="5487480" y="4608720"/>
              <a:ext cx="2137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lick Throug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5"/>
            <a:stretch/>
          </p:blipFill>
          <p:spPr>
            <a:xfrm>
              <a:off x="7696080" y="3733920"/>
              <a:ext cx="581040" cy="172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63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6181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51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Creating a Spy Glas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 rot="3192000">
            <a:off x="321840" y="4249440"/>
            <a:ext cx="574560" cy="76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 rot="5400000">
            <a:off x="2458440" y="470664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809880" y="1676520"/>
            <a:ext cx="2819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you familiar with these tools?  If so, let’s move on to the next slide.  If not, go ahead a grab that cir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44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 repeatCount="3000">
                                  <p:stCondLst>
                                    <p:cond delay="1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 repeatCount="3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rcRect l="3369" t="48479" r="60738" b="12111"/>
          <a:stretch/>
        </p:blipFill>
        <p:spPr>
          <a:xfrm>
            <a:off x="0" y="2916360"/>
            <a:ext cx="4786200" cy="394164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314280" y="2170080"/>
            <a:ext cx="2333160" cy="1285920"/>
            <a:chOff x="314280" y="2170080"/>
            <a:chExt cx="2333160" cy="1285920"/>
          </a:xfrm>
        </p:grpSpPr>
        <p:sp>
          <p:nvSpPr>
            <p:cNvPr id="448" name=""/>
            <p:cNvSpPr/>
            <p:nvPr/>
          </p:nvSpPr>
          <p:spPr>
            <a:xfrm>
              <a:off x="314280" y="2170080"/>
              <a:ext cx="22953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4400" y="2176560"/>
              <a:ext cx="2273040" cy="122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324" y="2012"/>
                  </a:moveTo>
                  <a:lnTo>
                    <a:pt x="23440" y="2012"/>
                  </a:lnTo>
                  <a:lnTo>
                    <a:pt x="23440" y="30430"/>
                  </a:lnTo>
                  <a:lnTo>
                    <a:pt x="14450" y="358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’re going to create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imated Magnifying G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’ll nee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circle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few lines,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couple of text box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 rot="19932000">
            <a:off x="5181480" y="1828440"/>
            <a:ext cx="400320" cy="530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05200" y="4019400"/>
            <a:ext cx="2619360" cy="2629080"/>
          </a:xfrm>
          <a:custGeom>
            <a:avLst/>
            <a:gdLst/>
            <a:ahLst/>
            <a:rect l="l" t="t" r="r" b="b"/>
            <a:pathLst>
              <a:path w="1650" h="1656">
                <a:moveTo>
                  <a:pt x="1650" y="0"/>
                </a:moveTo>
                <a:lnTo>
                  <a:pt x="1650" y="1656"/>
                </a:lnTo>
                <a:lnTo>
                  <a:pt x="0" y="1656"/>
                </a:lnTo>
                <a:lnTo>
                  <a:pt x="0" y="15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29040" y="3772080"/>
            <a:ext cx="428400" cy="1323720"/>
          </a:xfrm>
          <a:custGeom>
            <a:avLst/>
            <a:gdLst/>
            <a:ahLst/>
            <a:rect l="l" t="t" r="r" b="b"/>
            <a:pathLst>
              <a:path w="300" h="834">
                <a:moveTo>
                  <a:pt x="300" y="0"/>
                </a:moveTo>
                <a:lnTo>
                  <a:pt x="0" y="0"/>
                </a:lnTo>
                <a:lnTo>
                  <a:pt x="0" y="834"/>
                </a:lnTo>
                <a:lnTo>
                  <a:pt x="96" y="834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62400" y="3240000"/>
            <a:ext cx="26287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we’ll select the circl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can do this a couple of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the AutoShapes menu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efault circle 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Lines, Shapes &amp; Text-boxes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57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6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 rot="19932000">
            <a:off x="1555920" y="330012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838080" y="2362320"/>
            <a:ext cx="812880" cy="101592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362320"/>
            <a:ext cx="1676520" cy="53316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2362320"/>
            <a:ext cx="228600" cy="1981080"/>
          </a:xfrm>
          <a:prstGeom prst="line">
            <a:avLst/>
          </a:prstGeom>
          <a:ln w="1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So you’ve selected the </a:t>
            </a:r>
            <a:br>
              <a:rPr sz="2000"/>
            </a:b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circle tool, now lets draw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2666880"/>
            <a:ext cx="21207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st click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hold your Shift key, to k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perfectly r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2260440"/>
            <a:ext cx="1358640" cy="1359000"/>
          </a:xfrm>
          <a:prstGeom prst="ellipse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2171880"/>
            <a:ext cx="2248200" cy="2247840"/>
          </a:xfrm>
          <a:prstGeom prst="ellipse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200320" y="4019400"/>
            <a:ext cx="228600" cy="238320"/>
            <a:chOff x="2200320" y="4019400"/>
            <a:chExt cx="228600" cy="238320"/>
          </a:xfrm>
        </p:grpSpPr>
        <p:sp>
          <p:nvSpPr>
            <p:cNvPr id="468" name=""/>
            <p:cNvSpPr/>
            <p:nvPr/>
          </p:nvSpPr>
          <p:spPr>
            <a:xfrm>
              <a:off x="2314440" y="4019400"/>
              <a:ext cx="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0320" y="4138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pperplate Gothic Bold"/>
              </a:rPr>
              <a:t>Slide #1</a:t>
            </a:r>
            <a:endParaRPr b="0" lang="en-US" sz="3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542960" y="3295800"/>
            <a:ext cx="228600" cy="237960"/>
            <a:chOff x="1542960" y="3295800"/>
            <a:chExt cx="228600" cy="237960"/>
          </a:xfrm>
        </p:grpSpPr>
        <p:sp>
          <p:nvSpPr>
            <p:cNvPr id="472" name=""/>
            <p:cNvSpPr/>
            <p:nvPr/>
          </p:nvSpPr>
          <p:spPr>
            <a:xfrm>
              <a:off x="1657080" y="3295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42960" y="34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 rot="19932000">
            <a:off x="685800" y="2133360"/>
            <a:ext cx="399960" cy="5302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7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231 L 0.09514 0.17014 E">
                                      <p:cBhvr>
                                        <p:cTn id="275" dur="1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100"/>
                            </p:stCondLst>
                            <p:childTnLst>
                              <p:par>
                                <p:cTn id="292" nodeType="afterEffect" fill="hold" presetClass="path" presetID="49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66667E-006 2.59259E-006 L 0.07604 0.10139 E">
                                      <p:cBhvr>
                                        <p:cTn id="293" dur="17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426708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“Snap-shot” view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74640" y="463680"/>
            <a:ext cx="4246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Intermediate and Advanc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PowerPoint Desig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1321560"/>
            <a:ext cx="5562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Blende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Classroom and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Primarily Process, Procedur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Project-based exerc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queaky chalk sound"/>
              </a:rPr>
              <a:t>Final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43200" y="7696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066680" y="478008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erminal Objective for sake of 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529272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abling Objective for sake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5805360"/>
            <a:ext cx="73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Process &amp; Procedure to demonstrate function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2000"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1438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 flipV="1">
            <a:off x="2514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The circle is </a:t>
            </a:r>
            <a:br>
              <a:rPr sz="2000"/>
            </a:br>
            <a:r>
              <a:rPr b="1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going to be our 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3200" y="2149560"/>
            <a:ext cx="2266920" cy="226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 rot="19932000">
            <a:off x="2054160" y="39668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048120" y="2994120"/>
            <a:ext cx="46479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efaulted to a mossy green color – a green tint might look good for a magnifying le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42670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ough it looks a little dens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t’s drag it over this navy blue 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85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 rot="19932000">
            <a:off x="4343400" y="261576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04920" y="3733920"/>
            <a:ext cx="434340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’s 100% solid,  We’ll need to see through this le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492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03200" y="2149560"/>
            <a:ext cx="2266920" cy="2266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rcRect l="49433" t="20301" r="20294" b="31954"/>
          <a:stretch/>
        </p:blipFill>
        <p:spPr>
          <a:xfrm>
            <a:off x="219240" y="1787400"/>
            <a:ext cx="4039920" cy="4780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 rot="19932000">
            <a:off x="2111400" y="3704760"/>
            <a:ext cx="399960" cy="530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19932000">
            <a:off x="2104920" y="3704760"/>
            <a:ext cx="400320" cy="530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98600" y="1047600"/>
            <a:ext cx="255888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43" y="3503"/>
                </a:moveTo>
                <a:lnTo>
                  <a:pt x="24226" y="3503"/>
                </a:lnTo>
                <a:lnTo>
                  <a:pt x="24226" y="72632"/>
                </a:lnTo>
                <a:lnTo>
                  <a:pt x="20233" y="86595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k, now we’ll select our circle, with our mouse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ght clic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r short-cut menu will come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75080" y="5472000"/>
            <a:ext cx="2583000" cy="397080"/>
          </a:xfrm>
          <a:prstGeom prst="borderCallout2">
            <a:avLst>
              <a:gd name="adj1" fmla="val 18750"/>
              <a:gd name="adj2" fmla="val -8333"/>
              <a:gd name="adj3" fmla="val 28800"/>
              <a:gd name="adj4" fmla="val -2949"/>
              <a:gd name="adj5" fmla="val 173199"/>
              <a:gd name="adj6" fmla="val -30671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click on Format Au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19932000">
            <a:off x="2590920" y="6171840"/>
            <a:ext cx="399960" cy="53028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03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7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8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700"/>
                            </p:stCondLst>
                            <p:childTnLst>
                              <p:par>
                                <p:cTn id="358" nodeType="after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22222E-006 4.81481E-006 L 0.04722 0.35439 E">
                                      <p:cBhvr>
                                        <p:cTn id="359" dur="13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38096" t="31936" r="29501" b="17698"/>
          <a:stretch/>
        </p:blipFill>
        <p:spPr>
          <a:xfrm>
            <a:off x="2889360" y="1403280"/>
            <a:ext cx="4321080" cy="50371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 rot="19932000">
            <a:off x="2514600" y="616860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447920"/>
            <a:ext cx="28875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102638"/>
              <a:gd name="adj5" fmla="val 329328"/>
              <a:gd name="adj6" fmla="val 107476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sure you’re on the “color” t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0400" y="5019840"/>
            <a:ext cx="2257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you can change the color of the shape and/or it’s transparency, as well as add, change or remove it’s b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523960" y="3285720"/>
            <a:ext cx="1771920" cy="1714680"/>
            <a:chOff x="2523960" y="3285720"/>
            <a:chExt cx="1771920" cy="1714680"/>
          </a:xfrm>
        </p:grpSpPr>
        <p:sp>
          <p:nvSpPr>
            <p:cNvPr id="511" name=""/>
            <p:cNvSpPr/>
            <p:nvPr/>
          </p:nvSpPr>
          <p:spPr>
            <a:xfrm flipV="1">
              <a:off x="2523960" y="3285720"/>
              <a:ext cx="173376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686040" y="3486240"/>
              <a:ext cx="6098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95760" y="3857760"/>
              <a:ext cx="190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6200" y="3805200"/>
              <a:ext cx="104760" cy="83664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1600 h 836640"/>
                <a:gd name="textAreaBottom" fmla="*/ 81504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3"/>
                  </a:lnTo>
                  <a:cubicBezTo>
                    <a:pt x="10800" y="10433"/>
                    <a:pt x="5400" y="11333"/>
                    <a:pt x="0" y="11333"/>
                  </a:cubicBezTo>
                  <a:cubicBezTo>
                    <a:pt x="5400" y="11333"/>
                    <a:pt x="10800" y="12233"/>
                    <a:pt x="10800" y="1313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1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8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-4.44444E-006 L 0.0816 -0.51643 E">
                                      <p:cBhvr>
                                        <p:cTn id="372" dur="18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6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38096" t="35619" r="29288" b="18667"/>
          <a:stretch/>
        </p:blipFill>
        <p:spPr>
          <a:xfrm>
            <a:off x="2897280" y="1784520"/>
            <a:ext cx="4349520" cy="457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rcRect l="49026" t="47622" r="42002" b="49476"/>
          <a:stretch/>
        </p:blipFill>
        <p:spPr>
          <a:xfrm>
            <a:off x="4344840" y="2978280"/>
            <a:ext cx="1197000" cy="290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rcRect l="60360" t="50689" r="35858" b="46636"/>
          <a:stretch/>
        </p:blipFill>
        <p:spPr>
          <a:xfrm>
            <a:off x="5851440" y="3279600"/>
            <a:ext cx="505080" cy="268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rcRect l="50062" t="51255" r="48583" b="47003"/>
          <a:stretch/>
        </p:blipFill>
        <p:spPr>
          <a:xfrm>
            <a:off x="4483080" y="3343320"/>
            <a:ext cx="181080" cy="1746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rcRect l="51312" t="50751" r="43311" b="46571"/>
          <a:stretch/>
        </p:blipFill>
        <p:spPr>
          <a:xfrm>
            <a:off x="4649760" y="3289320"/>
            <a:ext cx="717480" cy="268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 rot="19932000">
            <a:off x="4460760" y="3331800"/>
            <a:ext cx="400320" cy="530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 rot="19932000">
            <a:off x="3260880" y="26348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55680" y="3013200"/>
            <a:ext cx="2286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want to keep some color, but need to be sure we can see through it.  We’ll drag the bar to 70% trans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29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8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112E-017 -2.22222E-006 L 0.13212 0.10185 E">
                                      <p:cBhvr>
                                        <p:cTn id="387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3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5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6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16667E-006 -4.44444E-006 L 0.06684 -4.44444E-006 E">
                                      <p:cBhvr>
                                        <p:cTn id="398" dur="6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3.05556E-006 -3.33333E-006 L 0.06893 -3.33333E-006 E">
                                      <p:cBhvr>
                                        <p:cTn id="400" dur="6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2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3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rcRect l="38096" t="35619" r="29288" b="18667"/>
          <a:stretch/>
        </p:blipFill>
        <p:spPr>
          <a:xfrm>
            <a:off x="2897280" y="1784520"/>
            <a:ext cx="4349520" cy="4572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 rot="19932000">
            <a:off x="5072040" y="332064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324480" y="5334120"/>
            <a:ext cx="14194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nd click 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1760" y="2147760"/>
            <a:ext cx="2313000" cy="231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36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2.77778E-007 -6.35838E-007 L -0.01858 0.36393 E">
                                      <p:cBhvr>
                                        <p:cTn id="415" dur="6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4560" y="2249640"/>
            <a:ext cx="2266920" cy="226692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25640" y="817560"/>
            <a:ext cx="225720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see what it looks like when  we drag it over the bar, to at 70% trans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 rot="19932000">
            <a:off x="4924440" y="5864040"/>
            <a:ext cx="399960" cy="52992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43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path" presetID="35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1.11022E-016 L -0.30209 -0.27153 E">
                                      <p:cBhvr>
                                        <p:cTn id="421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699000" y="1679400"/>
            <a:ext cx="3644640" cy="768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rot="19932000">
            <a:off x="4343400" y="2615760"/>
            <a:ext cx="399960" cy="530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01760" y="368280"/>
            <a:ext cx="2257200" cy="6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l!  You can see right through it.  But we’re just getting started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007760" y="152280"/>
            <a:ext cx="1964880" cy="709560"/>
            <a:chOff x="7007760" y="152280"/>
            <a:chExt cx="1964880" cy="709560"/>
          </a:xfrm>
        </p:grpSpPr>
        <p:sp>
          <p:nvSpPr>
            <p:cNvPr id="550" name=""/>
            <p:cNvSpPr/>
            <p:nvPr/>
          </p:nvSpPr>
          <p:spPr>
            <a:xfrm>
              <a:off x="7007760" y="152280"/>
              <a:ext cx="16941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ck for narrated 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ssistan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ound"/>
            <p:cNvSpPr/>
            <p:nvPr/>
          </p:nvSpPr>
          <p:spPr>
            <a:xfrm>
              <a:off x="8381880" y="271440"/>
              <a:ext cx="590760" cy="590400"/>
            </a:xfrm>
            <a:prstGeom prst="pie">
              <a:avLst/>
            </a:prstGeom>
            <a:solidFill>
              <a:srgbClr val="53876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520560" y="3092400"/>
            <a:ext cx="2292480" cy="2292480"/>
          </a:xfrm>
          <a:prstGeom prst="ellipse">
            <a:avLst/>
          </a:prstGeom>
          <a:solidFill>
            <a:srgbClr val="99cc00">
              <a:alpha val="3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rcRect l="5624" t="27491" r="33232" b="30854"/>
          <a:stretch/>
        </p:blipFill>
        <p:spPr>
          <a:xfrm>
            <a:off x="157320" y="1447920"/>
            <a:ext cx="7826040" cy="426708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626760" y="3198960"/>
            <a:ext cx="2080080" cy="2079000"/>
            <a:chOff x="626760" y="3198960"/>
            <a:chExt cx="2080080" cy="2079000"/>
          </a:xfrm>
        </p:grpSpPr>
        <p:sp>
          <p:nvSpPr>
            <p:cNvPr id="555" name=""/>
            <p:cNvSpPr/>
            <p:nvPr/>
          </p:nvSpPr>
          <p:spPr>
            <a:xfrm>
              <a:off x="1681200" y="4494240"/>
              <a:ext cx="0" cy="78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81200" y="319896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26760" y="4265640"/>
              <a:ext cx="784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922760" y="4265640"/>
              <a:ext cx="784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572000" y="1811160"/>
            <a:ext cx="2971800" cy="146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59400" y="1400040"/>
            <a:ext cx="838440" cy="7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99280" y="1400040"/>
            <a:ext cx="838080" cy="7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924680" y="4724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48440" y="303696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48040" y="474012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311200" y="2390760"/>
            <a:ext cx="6019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ere’s still a lot more to learn in this objective</a:t>
            </a:r>
            <a:endParaRPr b="0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Like draw perfectly aligned target-lines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Create “magnifiable text”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-242640">
              <a:spcBef>
                <a:spcPts val="1001"/>
              </a:spcBef>
              <a:buClr>
                <a:srgbClr val="000000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AND navigate and 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motion paths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. . . And this is this ju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pperplate Gothic Bold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 Objective!</a:t>
            </a: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6" name=""/>
          <p:cNvSpPr/>
          <p:nvPr/>
        </p:nvSpPr>
        <p:spPr>
          <a:xfrm>
            <a:off x="2585880" y="985680"/>
            <a:ext cx="2267280" cy="2267280"/>
          </a:xfrm>
          <a:prstGeom prst="ellipse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22344 0.31319 E">
                                      <p:cBhvr>
                                        <p:cTn id="427" dur="1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3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9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57" dur="1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9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2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28600" y="1357200"/>
            <a:ext cx="441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02240" y="128124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819520"/>
            <a:ext cx="2286000" cy="2286000"/>
            <a:chOff x="533520" y="2819520"/>
            <a:chExt cx="2286000" cy="2286000"/>
          </a:xfrm>
        </p:grpSpPr>
        <p:sp>
          <p:nvSpPr>
            <p:cNvPr id="571" name=""/>
            <p:cNvSpPr/>
            <p:nvPr/>
          </p:nvSpPr>
          <p:spPr>
            <a:xfrm>
              <a:off x="533520" y="2819520"/>
              <a:ext cx="2286000" cy="2286000"/>
            </a:xfrm>
            <a:prstGeom prst="ellipse">
              <a:avLst/>
            </a:prstGeom>
            <a:solidFill>
              <a:srgbClr val="99cc00">
                <a:alpha val="3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33520" y="3962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905120" y="39625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6520" y="2819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311560" y="2390760"/>
            <a:ext cx="6019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Bold"/>
              </a:rPr>
              <a:t>Thank you for taking the time to view my proto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1200" y="3429000"/>
            <a:ext cx="53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I look forward to your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pperplate Gothic Bold"/>
              </a:rPr>
              <a:t>Justin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6521400"/>
            <a:ext cx="53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229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Edtec 544: Dr. Maria Sch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7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44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33333E-006 2.22222E-006 C -3.33333E-006 0.00023 0.1698 -0.30047 0.25712 -0.36042 C 0.34427 -0.42037 0.48039 -0.38982 0.55295 -0.36204 C 0.62535 -0.33426 0.69306 -0.26759 0.69115 -0.19375 C 0.68924 -0.12037 0.5724 0.02384 0.54115 0.08102 E">
                                      <p:cBhvr>
                                        <p:cTn id="484" dur="43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8">
                                  <p:stCondLst>
                                    <p:cond delay="5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38268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360" y="3811680"/>
            <a:ext cx="8153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1360" y="463680"/>
            <a:ext cx="23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The Eigh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229040"/>
            <a:ext cx="556272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Click through 8-ste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Description of Enabling objective is self-run (don’t cl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queaky chalk sound"/>
              </a:rPr>
              <a:t>Demonstration of Enabling Objective is self-run too (no au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419720" y="7238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8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651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1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30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88"/>
              </a:spcBef>
              <a:buClr>
                <a:srgbClr val="ffffff"/>
              </a:buClr>
              <a:buFont typeface="squeaky chalk sou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383640" y="3429000"/>
            <a:ext cx="25048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Justin Kennedy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Edtech 544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Dr. Maria Sch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-9604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995560" y="2057400"/>
            <a:ext cx="32972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queaky chalk sound"/>
              </a:rPr>
              <a:t>Project Proto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62120" y="95256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lanning a Presentation: Given a topic, client and audience, Student will design a comprehensive client presentation story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arch Topic: Student will identify and access appropriate research sources for subject matter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earch Audience: Given the client's target audience and budget, Student will identify and design most practical manner of gathering audienc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view Client/SME: Provided with learning objectives and appropriate access, Student will successfully gather and distill the most relevant information to be included in the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Materials: Given topic, audience and access to the client, Student will list a least 3 outside resources appropriate for given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88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 Project: Given, budget and deadlines, Student will draft a visual timeline for completion of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32000" y="520560"/>
            <a:ext cx="478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One:  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6920" y="4629240"/>
            <a:ext cx="221076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ily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4680" y="4629240"/>
            <a:ext cx="3003120" cy="9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se Study, Inquiry, Role-Play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62120" y="96696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Designing the Template: Student will successfully demonstrate and discuss design considerations for a specific client'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Resources: Given client, topic and projected budget, Student will identify necessary tangible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Color Palate: Given access to client's assets Student will create a color palate that appropriately reflects client's branding and intent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Master Slide: Given access to client's assets, Student will create a master slide featuring theme reflective of client's br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Title &amp; Additional Masters: Provided with access to client’s assets, Student will successfully design additional master slides that reflect client branding while also distinguishing themse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Master Layouts: Given appropriate assets, Student will design master slide layouts that compliment and reflect the design and branding of the over all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Unique Layouts: Student will be able to evaluate content and assess as to where and when a customized design and/or layout might b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7440" y="520560"/>
            <a:ext cx="485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Two:  Templ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5120" y="4629240"/>
            <a:ext cx="23479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dure 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629240"/>
            <a:ext cx="2889000" cy="9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se Study, Inquiry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esent Four Animation Functions: Student will demonstrate animation of multiple objects featuring complex uses of the four primary animatio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Animation &amp; Layout Tools: Student will demonstrate a working knowledge of the  most important animation tools without use of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Combing Animation Functions: Student will successfully apply multiple animation functions to a single object requiring no more than an equal number of mouse clicks to execute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ine Animation Principles: Student will demonstrate an understanding of the appropriate use of animation based upon audience an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5280" y="520560"/>
            <a:ext cx="415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Three:  </a:t>
            </a:r>
            <a:r>
              <a:rPr b="0" lang="en-US" sz="2400" spc="-1" strike="noStrike">
                <a:solidFill>
                  <a:srgbClr val="ffff66"/>
                </a:solidFill>
                <a:latin typeface="squeaky chalk sound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15120" y="4629240"/>
            <a:ext cx="319536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, Procedure an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9760" y="4629240"/>
            <a:ext cx="28890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ion and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corporate Multimedia: Student demonstrates competence in incorporating and testing linked and embedded multi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uss Linking v. Embedding: Student will demonstrate an ability to determine which specific procedures are required for incorporating a variety of media file types in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Incorporation of Media: Student will demonstrate the ability to execute proper multimedia embedding and linking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nowledge of Obstacles: Student will anticipate and successfully troubleshoot the most common obstacles to successfully incorporating multime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80080" y="520560"/>
            <a:ext cx="511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Four:  Use of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7280" y="4629240"/>
            <a:ext cx="325152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, Procedure a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62480" y="5924520"/>
            <a:ext cx="510516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,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iming Functions: Student will master the advanced timeline functions to synchronize precise execution of audio and video in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Basic Animation Timing: Student will successfully convert animation from mouse-click mode to standard timing mode so that it runs successfully in slideshow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Timeline Hierarchy: Student will master use of the advanced timeline function  so as to ensure each action executes at the exact moment int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Audio Timing: Utilizing the advanced timeline function, Student will successfully demonstrate incorporating audio into a presentation so that it plays in perfect, timed sequence with multiple animations and slide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41920" y="520560"/>
            <a:ext cx="339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Five: 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6920" y="4629240"/>
            <a:ext cx="221076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62120" y="8953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2376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Incorporating Interactive Elements: Student will demonstrate ability to convert a presentation into an interactive functional program in Power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Hyperlinking: Student will successfully utilize the hyperlink function so that users can understand and interact with 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Action Settings: Student will successfully create actions and action buttons so that users can utilize them and understand their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87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emonstrate Protecting/Securing Action Settings: Student will anticipate potential vulnerabilities and secure post-edit presentations so that complex actions cannot be compromised by us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56320" y="520560"/>
            <a:ext cx="518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queaky chalk sound"/>
              </a:rPr>
              <a:t>Objective Six:  Inter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6920" y="4629240"/>
            <a:ext cx="2210760" cy="7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minal Objectiv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89040" y="4629240"/>
            <a:ext cx="247752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structional Methods: </a:t>
            </a: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924520"/>
            <a:ext cx="30481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ractic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ject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924520"/>
            <a:ext cx="434340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liver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 Discussion, Online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23:44:42Z</dcterms:created>
  <dc:creator>JrK Productions</dc:creator>
  <dc:description>Final project for Instructional Design 544</dc:description>
  <dc:language>en-US</dc:language>
  <cp:lastModifiedBy>Justin Kennedy</cp:lastModifiedBy>
  <dcterms:modified xsi:type="dcterms:W3CDTF">2009-12-20T00:07:49Z</dcterms:modified>
  <cp:revision>73</cp:revision>
  <dc:subject>Rapid Prototype Project Edtec 544</dc:subject>
  <dc:title>Intermediate &amp; Advanced PPT Design</dc:title>
</cp:coreProperties>
</file>